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7176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13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4"/>
          </p:nvPr>
        </p:nvSpPr>
        <p:spPr>
          <a:xfrm>
            <a:off x="3805200" y="-360"/>
            <a:ext cx="29116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5"/>
          </p:nvPr>
        </p:nvSpPr>
        <p:spPr>
          <a:xfrm>
            <a:off x="-360" y="9361080"/>
            <a:ext cx="29113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6"/>
          </p:nvPr>
        </p:nvSpPr>
        <p:spPr>
          <a:xfrm>
            <a:off x="3805200" y="9361080"/>
            <a:ext cx="29116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8A2BA-E10C-4BF4-B3CE-BC355868545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51CFC-AEF2-4F71-BEA0-B73B153A7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 source only uses single index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327CF-DF52-47E9-AEB0-AE64EE566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619BD-4056-4233-B756-536F398FF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CCFD8-75AD-43DF-800F-524816302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62577-1240-441B-8140-D96BBC979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colour symbolizes a process holding some part of the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ent on boundary exchan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FADE-841B-48D8-8386-E43F587B3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0B34-6929-4E99-88AA-4DB04E194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F726F-F9A0-4C7E-9CCD-D91E7A88C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ifiers are defined using Index-list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should be described in a compact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C9E31-BAA2-4CEA-B74E-360DCAA2F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C9EB4-0418-4CF8-969C-28ADD81C5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-fixed offsets occur with dynamic arr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6F41E-523B-4232-A159-F20B8A5EC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1D771-21A6-4662-8C92-537F50734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EEA5B-20AC-4167-ABC1-95437CE85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0CC0B-68CC-49E1-947F-F4BD20D42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nstalled on blizz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5ED4-D623-435C-ACE6-9CB592D43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0A469-D540-41B5-914A-C1406CF55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D51F8-E936-4484-BF15-8F50932F0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13DCD-71D9-4330-95E9-8CC54683C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A58AA-F13D-403F-A9B5-4D418F4950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67B53-0D97-4F99-A9E6-2371A4327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563EE-05BD-4F2E-9EA0-155664946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0FC34-B6D8-4AD9-9B0E-CABADFF90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ray-Layout can be faked, we really only need properly aligned ele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 simple example on white-bo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4BFDE-B045-45BC-9296-AD7E4EDA6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EFBE3-1F5E-47F5-8312-92CB91197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809A4-BC4F-482B-AD3B-094810B8B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4F445-FA9A-4A53-B86B-7BAE996C5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908F9-966F-4666-A57D-78CF72CB6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15C62-59C5-4493-BCB1-1560BF03F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01EB3-C950-441B-A6BC-6517DC0D2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7BD63-C1D4-4158-808A-40207A0C6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903CF-E9B1-4E94-9443-150B4D48F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DD8E0-F092-4B68-91CA-EEAE17B4D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0B32C-47B0-4A4B-B5E0-82B440107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B8A82-3B28-4565-9709-FFA0A276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70288-F4F7-4BB9-855F-810837F0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4E764-84A8-4FCC-933A-5891418D1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D7D5E-2E0F-48DB-A226-47B3C48D8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EB644-8E77-4707-9764-38E14375E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9A1B3-1291-4F1F-B121-D56E653D3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rcRect l="0" t="3158" r="1026" b="0"/>
          <a:stretch/>
        </p:blipFill>
        <p:spPr>
          <a:xfrm>
            <a:off x="0" y="0"/>
            <a:ext cx="7848720" cy="15001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"/>
          <p:cNvPicPr/>
          <p:nvPr/>
        </p:nvPicPr>
        <p:blipFill>
          <a:blip r:embed="rId3"/>
          <a:srcRect l="1318" t="0" r="0" b="0"/>
          <a:stretch/>
        </p:blipFill>
        <p:spPr>
          <a:xfrm>
            <a:off x="1741320" y="5286240"/>
            <a:ext cx="7425000" cy="157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"/>
          <p:cNvPicPr/>
          <p:nvPr/>
        </p:nvPicPr>
        <p:blipFill>
          <a:blip r:embed="rId2"/>
          <a:srcRect l="0" t="3158" r="1026" b="0"/>
          <a:stretch/>
        </p:blipFill>
        <p:spPr>
          <a:xfrm>
            <a:off x="0" y="0"/>
            <a:ext cx="7848720" cy="150012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3" descr=""/>
          <p:cNvPicPr/>
          <p:nvPr/>
        </p:nvPicPr>
        <p:blipFill>
          <a:blip r:embed="rId3"/>
          <a:srcRect l="1318" t="0" r="0" b="0"/>
          <a:stretch/>
        </p:blipFill>
        <p:spPr>
          <a:xfrm>
            <a:off x="1741320" y="5286240"/>
            <a:ext cx="7425000" cy="1576440"/>
          </a:xfrm>
          <a:prstGeom prst="rect">
            <a:avLst/>
          </a:prstGeom>
          <a:ln w="0">
            <a:noFill/>
          </a:ln>
        </p:spPr>
      </p:pic>
      <p:pic>
        <p:nvPicPr>
          <p:cNvPr id="42" name="Grafik 5" descr="dkrz_logo_mit_unterzeile_rz_ohne_serifen_cmyk.tif"/>
          <p:cNvPicPr/>
          <p:nvPr/>
        </p:nvPicPr>
        <p:blipFill>
          <a:blip r:embed="rId4"/>
          <a:stretch/>
        </p:blipFill>
        <p:spPr>
          <a:xfrm>
            <a:off x="5084640" y="785880"/>
            <a:ext cx="3273480" cy="11588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2"/>
          <a:srcRect l="0" t="3158" r="1026" b="0"/>
          <a:stretch/>
        </p:blipFill>
        <p:spPr>
          <a:xfrm>
            <a:off x="0" y="0"/>
            <a:ext cx="7848720" cy="1500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3"/>
          <a:srcRect l="1318" t="0" r="0" b="0"/>
          <a:stretch/>
        </p:blipFill>
        <p:spPr>
          <a:xfrm>
            <a:off x="1741320" y="5286240"/>
            <a:ext cx="7425000" cy="1576440"/>
          </a:xfrm>
          <a:prstGeom prst="rect">
            <a:avLst/>
          </a:prstGeom>
          <a:ln w="0">
            <a:noFill/>
          </a:ln>
        </p:spPr>
      </p:pic>
      <p:pic>
        <p:nvPicPr>
          <p:cNvPr id="83" name="Grafik 5" descr="dkrz_logo_mit_unterzeile_rz_ohne_serifen_cmyk.tif"/>
          <p:cNvPicPr/>
          <p:nvPr/>
        </p:nvPicPr>
        <p:blipFill>
          <a:blip r:embed="rId4"/>
          <a:stretch/>
        </p:blipFill>
        <p:spPr>
          <a:xfrm>
            <a:off x="88920" y="6075360"/>
            <a:ext cx="1482840" cy="525600"/>
          </a:xfrm>
          <a:prstGeom prst="rect">
            <a:avLst/>
          </a:prstGeom>
          <a:ln w="0">
            <a:noFill/>
          </a:ln>
        </p:spPr>
      </p:pic>
      <p:sp>
        <p:nvSpPr>
          <p:cNvPr id="84" name="Rechteck 6"/>
          <p:cNvSpPr/>
          <p:nvPr/>
        </p:nvSpPr>
        <p:spPr>
          <a:xfrm>
            <a:off x="1726920" y="6121440"/>
            <a:ext cx="72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© DKRZ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Gerade Verbindung 7"/>
          <p:cNvSpPr/>
          <p:nvPr/>
        </p:nvSpPr>
        <p:spPr>
          <a:xfrm>
            <a:off x="3211560" y="6119640"/>
            <a:ext cx="1440" cy="4842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oliennummernplatzhalter 5"/>
          <p:cNvSpPr/>
          <p:nvPr/>
        </p:nvSpPr>
        <p:spPr>
          <a:xfrm>
            <a:off x="8767800" y="6572160"/>
            <a:ext cx="4204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feld 9"/>
          <p:cNvSpPr/>
          <p:nvPr/>
        </p:nvSpPr>
        <p:spPr>
          <a:xfrm>
            <a:off x="8750160" y="6573960"/>
            <a:ext cx="393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/3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1"/>
          </p:nvPr>
        </p:nvSpPr>
        <p:spPr>
          <a:xfrm>
            <a:off x="813096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595959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F7F7A-02F5-4B8D-A570-14B3F262BE05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dt" idx="2"/>
          </p:nvPr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595959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98BFC-1B99-48B7-B5FF-86E9BAF014D7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3244680" y="6117840"/>
            <a:ext cx="21434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595959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csmr.ca.sandia.gov/~apinar/papers/siampp00.pdf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s://redmine.dkrz.de/doc/yaxt/html/index.html" TargetMode="External"/><Relationship Id="rId2" Type="http://schemas.openxmlformats.org/officeDocument/2006/relationships/hyperlink" Target="https://www.dkrz.de/redmine/projects/yaxt" TargetMode="External"/><Relationship Id="rId3" Type="http://schemas.openxmlformats.org/officeDocument/2006/relationships/hyperlink" Target="https://www.dkrz.de/redmine/projects/yaxt/wiki/Downloads" TargetMode="Externa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28640" y="378576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f7f7f"/>
                </a:solidFill>
                <a:latin typeface="Tahoma"/>
                <a:ea typeface="Tahoma"/>
              </a:rPr>
              <a:t>(Yet Another eXchange Tool, DKRZ 2012-201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f7f7f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728640" y="2571840"/>
            <a:ext cx="7772400" cy="12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040"/>
                </a:solidFill>
                <a:latin typeface="Tahoma"/>
                <a:ea typeface="Tahoma"/>
              </a:rPr>
              <a:t>Introduction to YAX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int src_index = rank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ourier New"/>
                <a:ea typeface="Tahoma"/>
              </a:rPr>
              <a:t>Xt_idxlist src_idxlist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 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xt_idxvec_new(&amp;src_index, 1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ourier New"/>
                <a:ea typeface="Tahoma"/>
              </a:rPr>
              <a:t>Xt_idxlist tgt_idxlist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if (rank == 0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struct Xt_stripe tgt_stripe 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{.start = 0, .nstrides = 4, .stride = 1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1" lang="en-GB" sz="2200" spc="-1" strike="noStrike">
                <a:solidFill>
                  <a:srgbClr val="ff0000"/>
                </a:solidFill>
                <a:latin typeface="Courier New"/>
                <a:ea typeface="Tahoma"/>
              </a:rPr>
              <a:t>tgt_idxlist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 =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xt_idxstripes_new(&amp;tgt_stripe, 1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} el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1" lang="en-GB" sz="2200" spc="-1" strike="noStrike">
                <a:solidFill>
                  <a:srgbClr val="ff0000"/>
                </a:solidFill>
                <a:latin typeface="Courier New"/>
                <a:ea typeface="Tahoma"/>
              </a:rPr>
              <a:t>tgt_idxlist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 = xt_idxempty_new(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efining a decomposi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6D59D-970C-4247-9687-718854C2A634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26A75-85EA-4830-9F34-78640FC3869F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Tahoma"/>
              </a:rPr>
              <a:t>Xt_xmap xmap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xmap_all2all_new(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src_idxlist, tgt_idxlist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MPI_COMM_WORLD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mapping between src and tgt decomposi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43304-1D0B-42F8-8370-319A4B5C18A5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7F0A7-2C42-4F44-A018-6E95A68FE394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Tahoma"/>
              </a:rPr>
              <a:t>Xt_redist redist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 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p2p_new(xmap, MPI_IN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data specific redistribution obje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A5412-4945-4982-9A1A-9E7A59F63A51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5E329-AF7B-443C-8A08-2C5747225253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int src_data[1] = {…}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int tgt_data[4]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s_exchange1(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redist, src_data, tgt_data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delete(redis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xmap_delete(xmap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idxlist_delete(tgt_idxlis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idxlist_delete(src_idxlis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oing the exchange and clean u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DC373-8445-4908-AC9D-23A8AEFED5DC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5FC8F-1AA5-4ABF-BC1D-74E341E383EB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57200" y="1285920"/>
            <a:ext cx="8229600" cy="37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Transpose from row-wise to column-wise decompos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9CAD7-E12F-48D9-91B0-05D37F90B281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8AA49-FFD1-4548-B42F-B5BF37D1CE8B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Inhaltsplatzhalter 1"/>
          <p:cNvSpPr/>
          <p:nvPr/>
        </p:nvSpPr>
        <p:spPr>
          <a:xfrm>
            <a:off x="468360" y="5157720"/>
            <a:ext cx="82296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Example program: </a:t>
            </a:r>
            <a:r>
              <a:rPr b="0" lang="en-US" sz="2400" spc="-1" strike="noStrike">
                <a:solidFill>
                  <a:srgbClr val="262626"/>
                </a:solidFill>
                <a:latin typeface="Courier New"/>
                <a:ea typeface="Tahoma"/>
              </a:rPr>
              <a:t>examples/row2col_f.f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Grafik 8" descr="row2col.png"/>
          <p:cNvPicPr/>
          <p:nvPr/>
        </p:nvPicPr>
        <p:blipFill>
          <a:blip r:embed="rId1"/>
          <a:stretch/>
        </p:blipFill>
        <p:spPr>
          <a:xfrm>
            <a:off x="446040" y="2349360"/>
            <a:ext cx="825192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1, 1) =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uniform_partition_start(global_range(:, 1)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mm_size, rank + 1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2, 1) =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uniform_partition_start(global_range(:, 1)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mm_size, rank + 2)) -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:, 2) = INT(global_range(:, 2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shape(:) = row_part_range(2, :) –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1, :) +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reate idxlist for row-wise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90B79-6F9F-4346-A017-CDF5D544B062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AC2F2-1446-4729-BD9B-06C4A79DDB86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:, 1) = INT(global_range(:, 1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1, 2) =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uniform_partition_start(global_range(:, 2)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mm_size, rank + 1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2, 2) =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uniform_partition_start(global_range(:, 2)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mm_size, rank + 2)) –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shape(:) = col_part_range(2, :)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- col_part_range(1, :) +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reate idxlist for column-wise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2255D-6793-4BCB-9370-B35A2BE615F9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7D025-C4BA-4878-9A84-69942CCFE870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global_range(1:2, 1:2) = RESHAPE((/ 1, 10, 1, 5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/ 2, 2 /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1, 1) =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2, 1) = 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:, 2) = (/ 1, 5 /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shape(:) = (/ 4, 5 /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:, 1) = (/ 1, 10 /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1, 2) =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2, 2) =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shape(:) = (/ 10, 2 /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95280" y="404280"/>
            <a:ext cx="673884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example for 10x5 global shape and 2</a:t>
            </a:r>
            <a:r>
              <a:rPr b="0" lang="en-US" sz="3200" spc="-1" strike="noStrike" baseline="30000">
                <a:solidFill>
                  <a:srgbClr val="404040"/>
                </a:solidFill>
                <a:latin typeface="Tahoma"/>
                <a:ea typeface="Tahoma"/>
              </a:rPr>
              <a:t>nd</a:t>
            </a: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 (= MPI rank 1) of 3 proce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66A79-9E44-417A-B0A2-64A8DCE73052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B81F8-6AC6-469E-AE9B-57A6AC7E11BE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src_idxlist = 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Tahoma"/>
              </a:rPr>
              <a:t>xt_idxfsection_new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0_xt_int_kind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global_shape, xt_int_kind),            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row_part_shape, xt_int_kind),          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row_part_range(1, :), xt_int_kind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tgt_idxlist = 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Tahoma"/>
              </a:rPr>
              <a:t>xt_idxfsection_new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0_xt_int_kind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global_shape, xt_int_kind),            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col_part_shape, xt_int_kind),          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col_part_range(1, :), xt_int_kind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reate decomposition descrip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4B06E-6C84-4E45-B8C1-24E4E58EEF37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B6928-4D15-489E-BE00-D286659F183F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! generate exchange ma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xmap = 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Tahoma"/>
              </a:rPr>
              <a:t>xt_xmap_all2all_new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src_idxlist, tgt_idxlist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mpi_comm_worl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! generate redistribution ob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edist = 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Tahoma"/>
              </a:rPr>
              <a:t>xt_redist_p2p_new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xmap, mpi_double_precis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reate mapping and redistrib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77648-0102-44FC-8DF8-A03529BF7571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40726-1279-463E-A2AD-9608CC324A6A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57200" y="1285560"/>
            <a:ext cx="82296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Redistribution of data between two sets of proce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What it do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1"/>
          <a:stretch/>
        </p:blipFill>
        <p:spPr>
          <a:xfrm>
            <a:off x="1547640" y="1844640"/>
            <a:ext cx="6048720" cy="4122720"/>
          </a:xfrm>
          <a:prstGeom prst="rect">
            <a:avLst/>
          </a:prstGeom>
          <a:ln w="0">
            <a:noFill/>
          </a:ln>
        </p:spPr>
      </p:pic>
      <p:sp>
        <p:nvSpPr>
          <p:cNvPr id="141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7B474-AAED-48F6-97D5-4DA4BB04DEDD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liennummernplatzhalter 6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697D3-DAC4-49B2-B08D-358C7622F51B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! prepare array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ALLOCATE(src_array(row_part_range(1, 1):row_part_range(2, 1),  &am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&amp;             row_part_range(1, 2):row_part_range(2, 2)), &am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&amp;   tgt_array(col_part_range(1, 1):col_part_range(2, 1),  &am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&amp;             col_part_range(1, 2):col_part_range(2, 2))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DO j = row_part_range(1, 2), row_part_range(2, 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DO i = row_part_range(1, 1), row_part_range(2, 1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src_array(i, j) = DBLE(i * j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END D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END D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! do the exchan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400" spc="-1" strike="noStrike">
                <a:solidFill>
                  <a:srgbClr val="ff0000"/>
                </a:solidFill>
                <a:latin typeface="Courier New"/>
                <a:ea typeface="Tahoma"/>
              </a:rPr>
              <a:t>xt_redist_s_exchange1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(redist, C_LOC(src_array), C_LOC(tgt_array)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Fill source array and redistribu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7DE7A-0F52-487F-8230-C2D7B97FBB94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1A976-ADB5-4510-8B8A-41EB6F391812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! clean up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DEALLOCATE(tgt_array, src_array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redist_delet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redist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xmap_delet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xmap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idxlist_delet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tgt_idxlist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idxlist_delet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src_idxlist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! finalis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finaliz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mpi_finalize(ierror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IF (ierror /= mpi_success) STOP 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Finish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9ECD8-8A7E-4FF0-AD52-453482F95E01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6204C-B660-4138-9105-06AB51D913C1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lists (Xt_idxlist) describe subsets of indices within the global index sp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he global index space can be any list of ind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here are multiple methods for constructing index list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vec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stri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s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list col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modifi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Empty Index l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Methods to define a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841F1-40F2-4579-B95B-FB5A5E2ECE8C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52EA8-CE36-4173-8153-B36C25016608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v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Arbitrary list of indic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62626"/>
                </a:solidFill>
                <a:latin typeface="Tahoma"/>
                <a:ea typeface="Tahoma"/>
              </a:rPr>
              <a:t>[0,3,32,26,44,14,48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strip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List of stripes:</a:t>
            </a:r>
            <a:br>
              <a:rPr sz="2000"/>
            </a:b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[[start = 0, nstrides = 3, stride = 2], [start = 1, nstrides = 2,</a:t>
            </a:r>
            <a:br>
              <a:rPr sz="2000"/>
            </a:b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stride = 2]] == [0,2,4,1,3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s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N-dimensional block of indices</a:t>
            </a:r>
            <a:br>
              <a:rPr sz="2000"/>
            </a:b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[start = 0, num_dimension = 2, global_size = [5,5],</a:t>
            </a:r>
            <a:br>
              <a:rPr sz="2000"/>
            </a:b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local_size = [3,3], local_start = [1,1]] == [6,7,8,11,12,13,16,17,18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Methods to define a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8AAA5-9148-482A-80FF-EA825C26C77C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43F41-8363-4FAD-B7CC-F364647D8F05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list coll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Combination of a number of index li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modifi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The modifier allows to define a mapping between ind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Modifiers create a new index list from an existing index l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list: I =[0,1,2,3,4,5]</a:t>
            </a:r>
            <a:br>
              <a:rPr sz="2000"/>
            </a:b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Modifier: </a:t>
            </a:r>
            <a:r>
              <a:rPr b="0" i="1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M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 = [0,2,4,6,8,10]-&gt;[10,8,6,4,2,0]</a:t>
            </a:r>
            <a:br>
              <a:rPr sz="2000"/>
            </a:br>
            <a:r>
              <a:rPr b="0" i="1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M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(I)=[</a:t>
            </a:r>
            <a:r>
              <a:rPr b="0" lang="en-US" sz="2000" spc="-1" strike="noStrike">
                <a:solidFill>
                  <a:srgbClr val="0070c0"/>
                </a:solidFill>
                <a:latin typeface="Tahoma"/>
                <a:ea typeface="Tahoma"/>
              </a:rPr>
              <a:t>10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,1,</a:t>
            </a:r>
            <a:r>
              <a:rPr b="0" lang="en-US" sz="2000" spc="-1" strike="noStrike">
                <a:solidFill>
                  <a:srgbClr val="0070c0"/>
                </a:solidFill>
                <a:latin typeface="Tahoma"/>
                <a:ea typeface="Tahoma"/>
              </a:rPr>
              <a:t>8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,3,</a:t>
            </a:r>
            <a:r>
              <a:rPr b="0" lang="en-US" sz="2000" spc="-1" strike="noStrike">
                <a:solidFill>
                  <a:srgbClr val="0070c0"/>
                </a:solidFill>
                <a:latin typeface="Tahoma"/>
                <a:ea typeface="Tahoma"/>
              </a:rPr>
              <a:t>6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,5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Empty index li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Methods to define a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6633-DB1A-4571-A86D-4428E10E8988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0E1EE-8C65-43A4-BFCE-6DA1D65E7909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57200" y="1285560"/>
            <a:ext cx="8229600" cy="28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Exchange maps (Xt_xmap) determine communication partners and what data needs to be exchanged, based on the decompos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Algorith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9320" indent="-4294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Every process sends its src and tgt list to all other proces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9320" indent="-4294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Rendezvous algorithm[1] based on a distributed directory of global indices is used to avoid all to all communication patter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mapping between src and tg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DCA21-FC39-4C9B-AD77-D97896BD294E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967B2-5AB4-4F77-936E-A2A9A2AC38E8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feld 6"/>
          <p:cNvSpPr/>
          <p:nvPr/>
        </p:nvSpPr>
        <p:spPr>
          <a:xfrm>
            <a:off x="468360" y="4653000"/>
            <a:ext cx="820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[1]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A. Pinar and B. Hendrickson, </a:t>
            </a:r>
            <a:r>
              <a:rPr b="0" lang="de-DE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Communication Support for Adaptive Computation}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 in Proc. SIAM Conf. on Parallel Processing for Scientific Computing, 20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Redistribution objects (Xt_redist) can be built for every non-null MPI data type (basic types, structs, vectors, 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ternally YAXT will build MPI data type for every required exchange </a:t>
            </a:r>
            <a:r>
              <a:rPr b="0" lang="en-GB" sz="2400" spc="-1" strike="noStrike">
                <a:solidFill>
                  <a:srgbClr val="262626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 no buffers are required for the ex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For a combined redistribution object YAXT will also build MPI data types even if the associated input arrays have no fixed offset between each ot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data specific redistribution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AFC1B-0F3D-4309-88A4-A39923B9678E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062DA-7F7C-4A87-96F4-307A984F5024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YAXT currently supports blocking redistribution of dat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oing the ex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D1047-58BC-4DAF-B6CC-191857C09621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6310D-DD55-4202-B900-AFC6902BBC72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TYPE(xt_idxlist) FUNCTION new_gp_3d_idxvec(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dx(gp_3d_vol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, j, k, p, r, index, 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n = SIZE(idx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DO k = 1, nlev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DO r = 1, 2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DO j = glats(r), glate(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DO i = glons(r), glone(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index = i + nlon * ( (j-1) + nlat * (k-1) 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idx(p) = index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DO !i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DO !j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DO !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DO !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new_gp_3d_idxvec = </a:t>
            </a:r>
            <a:r>
              <a:rPr b="1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xt_idxvec_new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(idx, n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 FUNCTION new_gp_3d_idxvec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Real world example:</a:t>
            </a:r>
            <a:br>
              <a:rPr sz="2800"/>
            </a:b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gp-decompos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6F363-A877-4A74-A74A-D1F7EB7C7267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C510C-F9EB-4FD5-82A7-DEEE0047979B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hteck 7"/>
          <p:cNvSpPr/>
          <p:nvPr/>
        </p:nvSpPr>
        <p:spPr>
          <a:xfrm>
            <a:off x="6004080" y="1474920"/>
            <a:ext cx="718920" cy="3585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hteck 9"/>
          <p:cNvSpPr/>
          <p:nvPr/>
        </p:nvSpPr>
        <p:spPr>
          <a:xfrm>
            <a:off x="6006960" y="1833480"/>
            <a:ext cx="71928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hteck 10"/>
          <p:cNvSpPr/>
          <p:nvPr/>
        </p:nvSpPr>
        <p:spPr>
          <a:xfrm>
            <a:off x="6723000" y="1474920"/>
            <a:ext cx="720720" cy="3585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hteck 11"/>
          <p:cNvSpPr/>
          <p:nvPr/>
        </p:nvSpPr>
        <p:spPr>
          <a:xfrm>
            <a:off x="6726240" y="219852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hteck 12"/>
          <p:cNvSpPr/>
          <p:nvPr/>
        </p:nvSpPr>
        <p:spPr>
          <a:xfrm>
            <a:off x="6726240" y="182736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hteck 13"/>
          <p:cNvSpPr/>
          <p:nvPr/>
        </p:nvSpPr>
        <p:spPr>
          <a:xfrm>
            <a:off x="6004080" y="2198520"/>
            <a:ext cx="7189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hteck 14"/>
          <p:cNvSpPr/>
          <p:nvPr/>
        </p:nvSpPr>
        <p:spPr>
          <a:xfrm>
            <a:off x="6006960" y="2565360"/>
            <a:ext cx="71928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hteck 15"/>
          <p:cNvSpPr/>
          <p:nvPr/>
        </p:nvSpPr>
        <p:spPr>
          <a:xfrm>
            <a:off x="6732720" y="2565360"/>
            <a:ext cx="718920" cy="35892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hteck 16"/>
          <p:cNvSpPr/>
          <p:nvPr/>
        </p:nvSpPr>
        <p:spPr>
          <a:xfrm>
            <a:off x="7443720" y="1474920"/>
            <a:ext cx="720720" cy="3585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hteck 17"/>
          <p:cNvSpPr/>
          <p:nvPr/>
        </p:nvSpPr>
        <p:spPr>
          <a:xfrm>
            <a:off x="8164440" y="1474920"/>
            <a:ext cx="719280" cy="3585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hteck 18"/>
          <p:cNvSpPr/>
          <p:nvPr/>
        </p:nvSpPr>
        <p:spPr>
          <a:xfrm>
            <a:off x="7443720" y="182412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hteck 19"/>
          <p:cNvSpPr/>
          <p:nvPr/>
        </p:nvSpPr>
        <p:spPr>
          <a:xfrm>
            <a:off x="8164440" y="1814400"/>
            <a:ext cx="71928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hteck 20"/>
          <p:cNvSpPr/>
          <p:nvPr/>
        </p:nvSpPr>
        <p:spPr>
          <a:xfrm>
            <a:off x="7451640" y="220500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hteck 21"/>
          <p:cNvSpPr/>
          <p:nvPr/>
        </p:nvSpPr>
        <p:spPr>
          <a:xfrm>
            <a:off x="7446960" y="2565360"/>
            <a:ext cx="71928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hteck 22"/>
          <p:cNvSpPr/>
          <p:nvPr/>
        </p:nvSpPr>
        <p:spPr>
          <a:xfrm>
            <a:off x="8166240" y="220356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hteck 23"/>
          <p:cNvSpPr/>
          <p:nvPr/>
        </p:nvSpPr>
        <p:spPr>
          <a:xfrm>
            <a:off x="8166240" y="2565360"/>
            <a:ext cx="72072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TYPE(xt_idxlist) FUNCTION new_ffsl_3d_idxvec(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dx(ffsl_3d_vol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, j, k, kk, p, index, 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n = size(idx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DO kk = 1, ffsl_nlev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k = ffsl_kstack(kk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DO j = ffsl_gp_lat1, ffsl_gp_lat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DO i = 1, nl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index = i + nlon * ( (j-1) + nlat * (k-1) 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idx(p) = index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new_ffsl_3d_idxvec = </a:t>
            </a:r>
            <a:r>
              <a:rPr b="1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xt_idxvec_new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(idx, 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END FUNCTION new_ffsl_3d_idxvec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ffsl-decompos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1500D-15ED-4945-BAD2-2B48D5F3128F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B408F-00D9-421D-B3E6-30D3B66F90AE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hteck 7"/>
          <p:cNvSpPr/>
          <p:nvPr/>
        </p:nvSpPr>
        <p:spPr>
          <a:xfrm>
            <a:off x="5865840" y="1608120"/>
            <a:ext cx="287964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hteck 24"/>
          <p:cNvSpPr/>
          <p:nvPr/>
        </p:nvSpPr>
        <p:spPr>
          <a:xfrm>
            <a:off x="5867280" y="1968480"/>
            <a:ext cx="288144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hteck 25"/>
          <p:cNvSpPr/>
          <p:nvPr/>
        </p:nvSpPr>
        <p:spPr>
          <a:xfrm>
            <a:off x="5865840" y="2328840"/>
            <a:ext cx="287964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hteck 26"/>
          <p:cNvSpPr/>
          <p:nvPr/>
        </p:nvSpPr>
        <p:spPr>
          <a:xfrm>
            <a:off x="5867280" y="2695680"/>
            <a:ext cx="288144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Gerade Verbindung 8"/>
          <p:cNvSpPr/>
          <p:nvPr/>
        </p:nvSpPr>
        <p:spPr>
          <a:xfrm flipV="1">
            <a:off x="5877000" y="1305000"/>
            <a:ext cx="360360" cy="2887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Gerade Verbindung 28"/>
          <p:cNvSpPr/>
          <p:nvPr/>
        </p:nvSpPr>
        <p:spPr>
          <a:xfrm flipV="1">
            <a:off x="8739360" y="1339920"/>
            <a:ext cx="360360" cy="2887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Gerade Verbindung 29"/>
          <p:cNvSpPr/>
          <p:nvPr/>
        </p:nvSpPr>
        <p:spPr>
          <a:xfrm flipV="1">
            <a:off x="8748720" y="2754360"/>
            <a:ext cx="360360" cy="28728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Library on top of MP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Inspired by Fortran Prototype </a:t>
            </a:r>
            <a:r>
              <a:rPr b="0" i="1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Unitrans</a:t>
            </a: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 by Mathias Pütz in ScalES-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Implemented in C </a:t>
            </a:r>
            <a:r>
              <a:rPr b="0" lang="de-DE" sz="2800" spc="-1" strike="noStrike">
                <a:solidFill>
                  <a:srgbClr val="262626"/>
                </a:solidFill>
                <a:latin typeface="Cambria Math"/>
                <a:ea typeface="Cambria Math"/>
              </a:rPr>
              <a:t>⇒</a:t>
            </a: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 type invari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Fully-featured Fortran interface (requires C-intero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Supported by DKR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BSD licen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Git and SVN-readonly mirror repositories avail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Uses pkg-config (</a:t>
            </a:r>
            <a:r>
              <a:rPr b="0" lang="de-DE" sz="2400" spc="-1" strike="noStrike">
                <a:solidFill>
                  <a:srgbClr val="262626"/>
                </a:solidFill>
                <a:latin typeface="Courier New"/>
                <a:ea typeface="Tahoma"/>
              </a:rPr>
              <a:t>pkg-config --cflags yaxt</a:t>
            </a: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040"/>
                </a:solidFill>
                <a:latin typeface="Tahoma"/>
                <a:ea typeface="Tahoma"/>
              </a:rPr>
              <a:t>Some remar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EAE52-4D24-4DFF-92A8-36E519AC8421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DFDBF-5387-498D-B753-C7CEF09861BA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SUBROUTINE set_gp_3d_off(off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INTENT(out) :: off(: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coords_off(nproma, nlev, ngpblk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, j, k, p, r, ib, ia, index, 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n = SIZE(off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ib = 1, ngpblk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k = 1, nlev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ia = 1, nprom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coords_off(ia,k,ib) = p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k = 1, nlev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b =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a = 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r = 1, 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j = glats(r), glate(r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i = glons(r), glone(r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a = ia +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F (ia &gt; nproma) THE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b = ib +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a =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IF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off(p) = coords_off(ia,k,ib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 !i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 !j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 !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 !k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 SUBROUTINE set_gp_3d_off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gp-offs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F640C-07E3-4285-A8C4-068181C12C05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1F449-AFE8-45DE-A6E3-632305032C6C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hteck 7"/>
          <p:cNvSpPr/>
          <p:nvPr/>
        </p:nvSpPr>
        <p:spPr>
          <a:xfrm>
            <a:off x="6012000" y="1268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hteck 9"/>
          <p:cNvSpPr/>
          <p:nvPr/>
        </p:nvSpPr>
        <p:spPr>
          <a:xfrm>
            <a:off x="6012000" y="1619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hteck 10"/>
          <p:cNvSpPr/>
          <p:nvPr/>
        </p:nvSpPr>
        <p:spPr>
          <a:xfrm>
            <a:off x="6732720" y="1268280"/>
            <a:ext cx="71892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hteck 11"/>
          <p:cNvSpPr/>
          <p:nvPr/>
        </p:nvSpPr>
        <p:spPr>
          <a:xfrm>
            <a:off x="6732720" y="1982880"/>
            <a:ext cx="7189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hteck 12"/>
          <p:cNvSpPr/>
          <p:nvPr/>
        </p:nvSpPr>
        <p:spPr>
          <a:xfrm>
            <a:off x="6732720" y="1619280"/>
            <a:ext cx="71892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hteck 13"/>
          <p:cNvSpPr/>
          <p:nvPr/>
        </p:nvSpPr>
        <p:spPr>
          <a:xfrm>
            <a:off x="6012000" y="19828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hteck 14"/>
          <p:cNvSpPr/>
          <p:nvPr/>
        </p:nvSpPr>
        <p:spPr>
          <a:xfrm>
            <a:off x="6012000" y="234792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hteck 15"/>
          <p:cNvSpPr/>
          <p:nvPr/>
        </p:nvSpPr>
        <p:spPr>
          <a:xfrm>
            <a:off x="6732720" y="2347920"/>
            <a:ext cx="72072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hteck 16"/>
          <p:cNvSpPr/>
          <p:nvPr/>
        </p:nvSpPr>
        <p:spPr>
          <a:xfrm>
            <a:off x="7451640" y="1268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hteck 17"/>
          <p:cNvSpPr/>
          <p:nvPr/>
        </p:nvSpPr>
        <p:spPr>
          <a:xfrm>
            <a:off x="8172360" y="1268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hteck 18"/>
          <p:cNvSpPr/>
          <p:nvPr/>
        </p:nvSpPr>
        <p:spPr>
          <a:xfrm>
            <a:off x="7451640" y="1619280"/>
            <a:ext cx="72072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hteck 19"/>
          <p:cNvSpPr/>
          <p:nvPr/>
        </p:nvSpPr>
        <p:spPr>
          <a:xfrm>
            <a:off x="8172360" y="1619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hteck 20"/>
          <p:cNvSpPr/>
          <p:nvPr/>
        </p:nvSpPr>
        <p:spPr>
          <a:xfrm>
            <a:off x="7451640" y="1982880"/>
            <a:ext cx="71928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hteck 21"/>
          <p:cNvSpPr/>
          <p:nvPr/>
        </p:nvSpPr>
        <p:spPr>
          <a:xfrm>
            <a:off x="7451640" y="234792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hteck 22"/>
          <p:cNvSpPr/>
          <p:nvPr/>
        </p:nvSpPr>
        <p:spPr>
          <a:xfrm>
            <a:off x="8172360" y="1982880"/>
            <a:ext cx="71928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hteck 23"/>
          <p:cNvSpPr/>
          <p:nvPr/>
        </p:nvSpPr>
        <p:spPr>
          <a:xfrm>
            <a:off x="8172360" y="2347920"/>
            <a:ext cx="71928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hteck 24"/>
          <p:cNvSpPr/>
          <p:nvPr/>
        </p:nvSpPr>
        <p:spPr>
          <a:xfrm>
            <a:off x="3552840" y="2311560"/>
            <a:ext cx="1944720" cy="18720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hteck 26"/>
          <p:cNvSpPr/>
          <p:nvPr/>
        </p:nvSpPr>
        <p:spPr>
          <a:xfrm>
            <a:off x="3552840" y="2519280"/>
            <a:ext cx="1944720" cy="1875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feld 6"/>
          <p:cNvSpPr/>
          <p:nvPr/>
        </p:nvSpPr>
        <p:spPr>
          <a:xfrm>
            <a:off x="6536520" y="2855880"/>
            <a:ext cx="21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index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feld 27"/>
          <p:cNvSpPr/>
          <p:nvPr/>
        </p:nvSpPr>
        <p:spPr>
          <a:xfrm>
            <a:off x="3792960" y="286380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off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1" name="Gerade Verbindung mit Pfeil 28"/>
          <p:cNvCxnSpPr/>
          <p:nvPr/>
        </p:nvCxnSpPr>
        <p:spPr>
          <a:xfrm flipH="1">
            <a:off x="3552120" y="1268280"/>
            <a:ext cx="3188520" cy="104364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32" name="Gerade Verbindung mit Pfeil 31"/>
          <p:cNvCxnSpPr/>
          <p:nvPr/>
        </p:nvCxnSpPr>
        <p:spPr>
          <a:xfrm flipH="1">
            <a:off x="4858920" y="2358720"/>
            <a:ext cx="1882080" cy="13068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33" name="Rechteck 38"/>
          <p:cNvSpPr/>
          <p:nvPr/>
        </p:nvSpPr>
        <p:spPr>
          <a:xfrm>
            <a:off x="5054760" y="2617920"/>
            <a:ext cx="433080" cy="8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feld 41"/>
          <p:cNvSpPr/>
          <p:nvPr/>
        </p:nvSpPr>
        <p:spPr>
          <a:xfrm>
            <a:off x="3492360" y="3860640"/>
            <a:ext cx="52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 to offset rela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-th local index corresponds to p-th local offse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,j,k)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ia,k,ib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SUBROUTINE set_ffsl_3d_off(off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INTENT(out) :: off(: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coords_off(nlon, ffsl_nlat, ffsl_nlev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, j, k, kk, ic, jc, kc, p, index, 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n = SIZE(off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kc = 1, ffsl_nlev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jc = ffsl_nlat, 1, -1 ! change in j-ori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ic = 1, nl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coords_off(ic, jc, kc) = p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kk = 1, ffsl_nlev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kc = kk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j = ffsl_gp_lat1, ffsl_gp_lat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jc = j-ffsl_gp_lat1+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i = 1, nl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ic =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off(p) = coords_off(ic, jc, kc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 SUBROUTINE set_ffsl_3d_off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ffsl-offs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EDD35-EC63-43F0-A9B7-93E2815FFF6D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946C7-33E9-4EE2-B0F5-1D69C7176DDD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hteck 7"/>
          <p:cNvSpPr/>
          <p:nvPr/>
        </p:nvSpPr>
        <p:spPr>
          <a:xfrm>
            <a:off x="5865840" y="1608120"/>
            <a:ext cx="287964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hteck 24"/>
          <p:cNvSpPr/>
          <p:nvPr/>
        </p:nvSpPr>
        <p:spPr>
          <a:xfrm>
            <a:off x="5865840" y="1971720"/>
            <a:ext cx="288144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hteck 25"/>
          <p:cNvSpPr/>
          <p:nvPr/>
        </p:nvSpPr>
        <p:spPr>
          <a:xfrm>
            <a:off x="5865840" y="2333520"/>
            <a:ext cx="287964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hteck 26"/>
          <p:cNvSpPr/>
          <p:nvPr/>
        </p:nvSpPr>
        <p:spPr>
          <a:xfrm>
            <a:off x="5865840" y="2695680"/>
            <a:ext cx="288144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Gerade Verbindung 8"/>
          <p:cNvSpPr/>
          <p:nvPr/>
        </p:nvSpPr>
        <p:spPr>
          <a:xfrm flipV="1">
            <a:off x="5877000" y="1305000"/>
            <a:ext cx="360360" cy="2887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Gerade Verbindung 28"/>
          <p:cNvSpPr/>
          <p:nvPr/>
        </p:nvSpPr>
        <p:spPr>
          <a:xfrm flipV="1">
            <a:off x="8739360" y="1339920"/>
            <a:ext cx="360360" cy="2887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Gerade Verbindung 29"/>
          <p:cNvSpPr/>
          <p:nvPr/>
        </p:nvSpPr>
        <p:spPr>
          <a:xfrm flipV="1">
            <a:off x="8748720" y="2754360"/>
            <a:ext cx="360360" cy="28728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Definition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USE ya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TYPE(xt_idxlist) :: </a:t>
            </a: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gp_3d_idxlist, ffsl_3d_idxlis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TYPE(xt_xmap) :: </a:t>
            </a:r>
            <a:r>
              <a:rPr b="1" lang="en-GB" sz="1100" spc="-1" strike="noStrike">
                <a:solidFill>
                  <a:srgbClr val="00b050"/>
                </a:solidFill>
                <a:latin typeface="Courier New"/>
                <a:ea typeface="Tahoma"/>
              </a:rPr>
              <a:t>gp2ffsl_3d_xma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ALLOCATABLE :: 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gp_3d_off(:), ffsl_3d_off(: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TYPE(xt_redist), SAVE :: </a:t>
            </a:r>
            <a:r>
              <a:rPr b="1" lang="en-GB" sz="1100" spc="-1" strike="noStrike">
                <a:solidFill>
                  <a:srgbClr val="c00000"/>
                </a:solidFill>
                <a:latin typeface="Courier New"/>
                <a:ea typeface="Tahoma"/>
              </a:rPr>
              <a:t>gp2ffsl_3d_redis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Decomposition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gp_3d_idxl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 = new_gp_3d_idxvec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ffsl_3d_idxl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 = new_ffsl_3d_idxstripes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Init xmap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b050"/>
                </a:solidFill>
                <a:latin typeface="Courier New"/>
                <a:ea typeface="Tahoma"/>
              </a:rPr>
              <a:t>gp2ffsl_3d_xmap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 = </a:t>
            </a:r>
            <a:r>
              <a:rPr b="1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xt_xmap_all2all_new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(</a:t>
            </a: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gp_3d_idxl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</a:t>
            </a: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ffsl_3d_idxl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 model_comm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Offset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CALL set_gp_3d_off(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gp_3d_off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CALL set_ffsl_3d_off(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ffsl_3d_off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Red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c00000"/>
                </a:solidFill>
                <a:latin typeface="Courier New"/>
                <a:ea typeface="Tahoma"/>
              </a:rPr>
              <a:t>gp2ffsl_3d_red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 = </a:t>
            </a:r>
            <a:r>
              <a:rPr b="1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p2p_off_new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(</a:t>
            </a:r>
            <a:r>
              <a:rPr b="1" lang="en-GB" sz="1100" spc="-1" strike="noStrike">
                <a:solidFill>
                  <a:srgbClr val="00b050"/>
                </a:solidFill>
                <a:latin typeface="Courier New"/>
                <a:ea typeface="Tahoma"/>
              </a:rPr>
              <a:t>gp2ffsl_3d_xmap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gp_3d_off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ffsl_3d_off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p_real_dp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Usage in the model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1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s_exchange1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(</a:t>
            </a:r>
            <a:r>
              <a:rPr b="1" lang="en-GB" sz="1100" spc="-1" strike="noStrike">
                <a:solidFill>
                  <a:srgbClr val="c00000"/>
                </a:solidFill>
                <a:latin typeface="Courier New"/>
                <a:ea typeface="Tahoma"/>
              </a:rPr>
              <a:t>gp2ffsl_3d_red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C_LOC(</a:t>
            </a:r>
            <a:r>
              <a:rPr b="1" lang="en-GB" sz="1100" spc="-1" strike="noStrike">
                <a:solidFill>
                  <a:srgbClr val="000000"/>
                </a:solidFill>
                <a:latin typeface="Courier New"/>
                <a:ea typeface="Tahoma"/>
              </a:rPr>
              <a:t>gp_data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), C_LOC(</a:t>
            </a:r>
            <a:r>
              <a:rPr b="1" lang="en-GB" sz="1100" spc="-1" strike="noStrike">
                <a:solidFill>
                  <a:srgbClr val="000000"/>
                </a:solidFill>
                <a:latin typeface="Courier New"/>
                <a:ea typeface="Tahoma"/>
              </a:rPr>
              <a:t>ffsl_data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)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us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A772F-C957-4EA0-9D93-AB9C8EA56487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181D5-2814-434A-B04A-0818AE8248C1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! Different exchange kinds, each of the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! behaves differently at global domain boundari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p_exch_kind      =  1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uplus_exch_kind  =  2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u_exch_kind      =  3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uu_exch_kind     =  4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vplus_exch_kind  =  5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v_exch_kind      =  6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vv_exch_kind     =  7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vf_exch_kind     =  8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s_exch_kind      =  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sminus_exch_kind = 10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! Usage of yaxt-modifiers to simplify definitions of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! Decomposition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Real world example:</a:t>
            </a:r>
            <a:br>
              <a:rPr sz="2800"/>
            </a:b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MPIOM bounds-exchange with modifi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C309E-F54F-45F6-A815-D7F9C8714920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4FDDF-0C23-45B5-86CE-7A89725A6DD8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7" name=""/>
          <p:cNvGraphicFramePr/>
          <p:nvPr/>
        </p:nvGraphicFramePr>
        <p:xfrm>
          <a:off x="1547640" y="1557360"/>
          <a:ext cx="2602080" cy="1482840"/>
        </p:xfrm>
        <a:graphic>
          <a:graphicData uri="http://schemas.openxmlformats.org/drawingml/2006/table">
            <a:tbl>
              <a:tblPr/>
              <a:tblGrid>
                <a:gridCol w="433440"/>
                <a:gridCol w="433440"/>
                <a:gridCol w="434880"/>
                <a:gridCol w="433440"/>
                <a:gridCol w="433440"/>
                <a:gridCol w="4334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Simplified incomplete bounds-exchange examp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DC41B-6637-4C05-8857-C6FD19FCB178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4A425-0CF2-467E-8B19-341A0FA1289A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5148360" y="1557360"/>
          <a:ext cx="2601720" cy="1482840"/>
        </p:xfrm>
        <a:graphic>
          <a:graphicData uri="http://schemas.openxmlformats.org/drawingml/2006/table">
            <a:tbl>
              <a:tblPr/>
              <a:tblGrid>
                <a:gridCol w="433440"/>
                <a:gridCol w="433080"/>
                <a:gridCol w="435240"/>
                <a:gridCol w="433440"/>
                <a:gridCol w="433080"/>
                <a:gridCol w="4334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sp>
        <p:nvSpPr>
          <p:cNvPr id="363" name="Textfeld 8"/>
          <p:cNvSpPr/>
          <p:nvPr/>
        </p:nvSpPr>
        <p:spPr>
          <a:xfrm>
            <a:off x="1279080" y="1197000"/>
            <a:ext cx="31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source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feld 9"/>
          <p:cNvSpPr/>
          <p:nvPr/>
        </p:nvSpPr>
        <p:spPr>
          <a:xfrm>
            <a:off x="4951080" y="1197000"/>
            <a:ext cx="30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target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feld 10"/>
          <p:cNvSpPr/>
          <p:nvPr/>
        </p:nvSpPr>
        <p:spPr>
          <a:xfrm>
            <a:off x="868320" y="3500280"/>
            <a:ext cx="684972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ier 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[1,7,13,19]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5,11,17,23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[6,12,18,24]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2,8,14,2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(I) = 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feld 11"/>
          <p:cNvSpPr/>
          <p:nvPr/>
        </p:nvSpPr>
        <p:spPr>
          <a:xfrm>
            <a:off x="852480" y="4581360"/>
            <a:ext cx="403200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source indices (including halo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[15,16,17,18,21,22,23,2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target indices (including halo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M(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[15,16,17,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1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21,22,23,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feld 12"/>
          <p:cNvSpPr/>
          <p:nvPr/>
        </p:nvSpPr>
        <p:spPr>
          <a:xfrm>
            <a:off x="5219640" y="4508640"/>
            <a:ext cx="302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ifier can be applied to any index 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included 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change of inner ha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208F0-892A-47A4-B847-3D8222489DCC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3B8AA-65B6-49E2-9AEA-F710E41BC42E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ompleting the bounds-exchange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Freihandform 9"/>
          <p:cNvSpPr/>
          <p:nvPr/>
        </p:nvSpPr>
        <p:spPr>
          <a:xfrm>
            <a:off x="198360" y="1554120"/>
            <a:ext cx="4722840" cy="1463760"/>
          </a:xfrm>
          <a:custGeom>
            <a:avLst/>
            <a:gdLst>
              <a:gd name="textAreaLeft" fmla="*/ 0 w 4722840"/>
              <a:gd name="textAreaRight" fmla="*/ 4723200 w 4722840"/>
              <a:gd name="textAreaTop" fmla="*/ 0 h 1463760"/>
              <a:gd name="textAreaBottom" fmla="*/ 1464120 h 1463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ihandform 10"/>
          <p:cNvSpPr/>
          <p:nvPr/>
        </p:nvSpPr>
        <p:spPr>
          <a:xfrm>
            <a:off x="393840" y="1800360"/>
            <a:ext cx="4297320" cy="1279440"/>
          </a:xfrm>
          <a:custGeom>
            <a:avLst/>
            <a:gdLst>
              <a:gd name="textAreaLeft" fmla="*/ 0 w 4297320"/>
              <a:gd name="textAreaRight" fmla="*/ 4297680 w 4297320"/>
              <a:gd name="textAreaTop" fmla="*/ 0 h 1279440"/>
              <a:gd name="textAreaBottom" fmla="*/ 1279800 h 127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ihandform 11"/>
          <p:cNvSpPr/>
          <p:nvPr/>
        </p:nvSpPr>
        <p:spPr>
          <a:xfrm>
            <a:off x="198360" y="1736640"/>
            <a:ext cx="212760" cy="1281240"/>
          </a:xfrm>
          <a:custGeom>
            <a:avLst/>
            <a:gdLst>
              <a:gd name="textAreaLeft" fmla="*/ 0 w 212760"/>
              <a:gd name="textAreaRight" fmla="*/ 213120 w 212760"/>
              <a:gd name="textAreaTop" fmla="*/ 0 h 1281240"/>
              <a:gd name="textAreaBottom" fmla="*/ 1281240 h 12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ihandform 12"/>
          <p:cNvSpPr/>
          <p:nvPr/>
        </p:nvSpPr>
        <p:spPr>
          <a:xfrm>
            <a:off x="4708440" y="1736640"/>
            <a:ext cx="212760" cy="1281240"/>
          </a:xfrm>
          <a:custGeom>
            <a:avLst/>
            <a:gdLst>
              <a:gd name="textAreaLeft" fmla="*/ 0 w 212760"/>
              <a:gd name="textAreaRight" fmla="*/ 213120 w 212760"/>
              <a:gd name="textAreaTop" fmla="*/ 0 h 1281240"/>
              <a:gd name="textAreaBottom" fmla="*/ 1281240 h 12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ihandform 13"/>
          <p:cNvSpPr/>
          <p:nvPr/>
        </p:nvSpPr>
        <p:spPr>
          <a:xfrm>
            <a:off x="411120" y="1736640"/>
            <a:ext cx="1463760" cy="45720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36720">
            <a:solidFill>
              <a:srgbClr val="000000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ihandform 14"/>
          <p:cNvSpPr/>
          <p:nvPr/>
        </p:nvSpPr>
        <p:spPr>
          <a:xfrm>
            <a:off x="4464000" y="1736640"/>
            <a:ext cx="244440" cy="1281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ihandform 15"/>
          <p:cNvSpPr/>
          <p:nvPr/>
        </p:nvSpPr>
        <p:spPr>
          <a:xfrm>
            <a:off x="411120" y="1736640"/>
            <a:ext cx="212760" cy="1281240"/>
          </a:xfrm>
          <a:custGeom>
            <a:avLst/>
            <a:gdLst>
              <a:gd name="textAreaLeft" fmla="*/ 0 w 212760"/>
              <a:gd name="textAreaRight" fmla="*/ 213120 w 212760"/>
              <a:gd name="textAreaTop" fmla="*/ 0 h 1281240"/>
              <a:gd name="textAreaBottom" fmla="*/ 1281240 h 12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ihandform 16"/>
          <p:cNvSpPr/>
          <p:nvPr/>
        </p:nvSpPr>
        <p:spPr>
          <a:xfrm>
            <a:off x="1874880" y="1736640"/>
            <a:ext cx="2833560" cy="457200"/>
          </a:xfrm>
          <a:custGeom>
            <a:avLst/>
            <a:gdLst>
              <a:gd name="textAreaLeft" fmla="*/ 0 w 2833560"/>
              <a:gd name="textAreaRight" fmla="*/ 2833920 w 28335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36720">
            <a:solidFill>
              <a:srgbClr val="000000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ihandform 17"/>
          <p:cNvSpPr/>
          <p:nvPr/>
        </p:nvSpPr>
        <p:spPr>
          <a:xfrm>
            <a:off x="411120" y="2193840"/>
            <a:ext cx="2835360" cy="824040"/>
          </a:xfrm>
          <a:custGeom>
            <a:avLst/>
            <a:gdLst>
              <a:gd name="textAreaLeft" fmla="*/ 0 w 2835360"/>
              <a:gd name="textAreaRight" fmla="*/ 2835360 w 283536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36720">
            <a:solidFill>
              <a:srgbClr val="000000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ihandform 18"/>
          <p:cNvSpPr/>
          <p:nvPr/>
        </p:nvSpPr>
        <p:spPr>
          <a:xfrm>
            <a:off x="3246480" y="2193840"/>
            <a:ext cx="1461960" cy="824040"/>
          </a:xfrm>
          <a:custGeom>
            <a:avLst/>
            <a:gdLst>
              <a:gd name="textAreaLeft" fmla="*/ 0 w 1461960"/>
              <a:gd name="textAreaRight" fmla="*/ 1462320 w 146196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36720">
            <a:solidFill>
              <a:srgbClr val="000000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ihandform 19"/>
          <p:cNvSpPr/>
          <p:nvPr/>
        </p:nvSpPr>
        <p:spPr>
          <a:xfrm>
            <a:off x="166680" y="3840120"/>
            <a:ext cx="1828800" cy="82404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ihandform 20"/>
          <p:cNvSpPr/>
          <p:nvPr/>
        </p:nvSpPr>
        <p:spPr>
          <a:xfrm>
            <a:off x="3459240" y="4754520"/>
            <a:ext cx="1828800" cy="100656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006560"/>
              <a:gd name="textAreaBottom" fmla="*/ 1006920 h 100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ihandform 21"/>
          <p:cNvSpPr/>
          <p:nvPr/>
        </p:nvSpPr>
        <p:spPr>
          <a:xfrm>
            <a:off x="166680" y="4754520"/>
            <a:ext cx="3200400" cy="100656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006560"/>
              <a:gd name="textAreaBottom" fmla="*/ 1006920 h 100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ihandform 22"/>
          <p:cNvSpPr/>
          <p:nvPr/>
        </p:nvSpPr>
        <p:spPr>
          <a:xfrm>
            <a:off x="2087640" y="3840120"/>
            <a:ext cx="3200400" cy="82404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ihandform 23"/>
          <p:cNvSpPr/>
          <p:nvPr/>
        </p:nvSpPr>
        <p:spPr>
          <a:xfrm>
            <a:off x="16668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ihandform 24"/>
          <p:cNvSpPr/>
          <p:nvPr/>
        </p:nvSpPr>
        <p:spPr>
          <a:xfrm>
            <a:off x="349200" y="4022640"/>
            <a:ext cx="1463760" cy="45720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ihandform 25"/>
          <p:cNvSpPr/>
          <p:nvPr/>
        </p:nvSpPr>
        <p:spPr>
          <a:xfrm>
            <a:off x="349200" y="4022640"/>
            <a:ext cx="184320" cy="457200"/>
          </a:xfrm>
          <a:custGeom>
            <a:avLst/>
            <a:gdLst>
              <a:gd name="textAreaLeft" fmla="*/ 0 w 184320"/>
              <a:gd name="textAreaRight" fmla="*/ 184680 w 1843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ihandform 26"/>
          <p:cNvSpPr/>
          <p:nvPr/>
        </p:nvSpPr>
        <p:spPr>
          <a:xfrm>
            <a:off x="3641760" y="4479840"/>
            <a:ext cx="1463760" cy="1843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ihandform 27"/>
          <p:cNvSpPr/>
          <p:nvPr/>
        </p:nvSpPr>
        <p:spPr>
          <a:xfrm>
            <a:off x="2270160" y="4022640"/>
            <a:ext cx="2835360" cy="457200"/>
          </a:xfrm>
          <a:custGeom>
            <a:avLst/>
            <a:gdLst>
              <a:gd name="textAreaLeft" fmla="*/ 0 w 2835360"/>
              <a:gd name="textAreaRight" fmla="*/ 2835360 w 28353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ihandform 28"/>
          <p:cNvSpPr/>
          <p:nvPr/>
        </p:nvSpPr>
        <p:spPr>
          <a:xfrm>
            <a:off x="16668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ihandform 29"/>
          <p:cNvSpPr/>
          <p:nvPr/>
        </p:nvSpPr>
        <p:spPr>
          <a:xfrm>
            <a:off x="349200" y="4937040"/>
            <a:ext cx="2835360" cy="824040"/>
          </a:xfrm>
          <a:custGeom>
            <a:avLst/>
            <a:gdLst>
              <a:gd name="textAreaLeft" fmla="*/ 0 w 2835360"/>
              <a:gd name="textAreaRight" fmla="*/ 2835360 w 283536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ihandform 30"/>
          <p:cNvSpPr/>
          <p:nvPr/>
        </p:nvSpPr>
        <p:spPr>
          <a:xfrm>
            <a:off x="345924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ihandform 31"/>
          <p:cNvSpPr/>
          <p:nvPr/>
        </p:nvSpPr>
        <p:spPr>
          <a:xfrm>
            <a:off x="3641760" y="4937040"/>
            <a:ext cx="1463760" cy="82404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ihandform 32"/>
          <p:cNvSpPr/>
          <p:nvPr/>
        </p:nvSpPr>
        <p:spPr>
          <a:xfrm>
            <a:off x="163044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ihandform 33"/>
          <p:cNvSpPr/>
          <p:nvPr/>
        </p:nvSpPr>
        <p:spPr>
          <a:xfrm>
            <a:off x="3641760" y="4297320"/>
            <a:ext cx="1433520" cy="182520"/>
          </a:xfrm>
          <a:custGeom>
            <a:avLst/>
            <a:gdLst>
              <a:gd name="textAreaLeft" fmla="*/ 0 w 1433520"/>
              <a:gd name="textAreaRight" fmla="*/ 1433880 w 1433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ihandform 34"/>
          <p:cNvSpPr/>
          <p:nvPr/>
        </p:nvSpPr>
        <p:spPr>
          <a:xfrm>
            <a:off x="227016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ihandform 35"/>
          <p:cNvSpPr/>
          <p:nvPr/>
        </p:nvSpPr>
        <p:spPr>
          <a:xfrm>
            <a:off x="4921200" y="4022640"/>
            <a:ext cx="184320" cy="457200"/>
          </a:xfrm>
          <a:custGeom>
            <a:avLst/>
            <a:gdLst>
              <a:gd name="textAreaLeft" fmla="*/ 0 w 184320"/>
              <a:gd name="textAreaRight" fmla="*/ 184680 w 1843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ihandform 36"/>
          <p:cNvSpPr/>
          <p:nvPr/>
        </p:nvSpPr>
        <p:spPr>
          <a:xfrm>
            <a:off x="349200" y="4937040"/>
            <a:ext cx="184320" cy="824040"/>
          </a:xfrm>
          <a:custGeom>
            <a:avLst/>
            <a:gdLst>
              <a:gd name="textAreaLeft" fmla="*/ 0 w 184320"/>
              <a:gd name="textAreaRight" fmla="*/ 184680 w 1843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3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ihandform 37"/>
          <p:cNvSpPr/>
          <p:nvPr/>
        </p:nvSpPr>
        <p:spPr>
          <a:xfrm>
            <a:off x="300204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ihandform 38"/>
          <p:cNvSpPr/>
          <p:nvPr/>
        </p:nvSpPr>
        <p:spPr>
          <a:xfrm>
            <a:off x="349200" y="4937040"/>
            <a:ext cx="1494000" cy="184320"/>
          </a:xfrm>
          <a:custGeom>
            <a:avLst/>
            <a:gdLst>
              <a:gd name="textAreaLeft" fmla="*/ 0 w 1494000"/>
              <a:gd name="textAreaRight" fmla="*/ 1494360 w 149400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ihandform 39"/>
          <p:cNvSpPr/>
          <p:nvPr/>
        </p:nvSpPr>
        <p:spPr>
          <a:xfrm>
            <a:off x="349200" y="4297320"/>
            <a:ext cx="1463760" cy="1825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ihandform 40"/>
          <p:cNvSpPr/>
          <p:nvPr/>
        </p:nvSpPr>
        <p:spPr>
          <a:xfrm>
            <a:off x="3641760" y="4937040"/>
            <a:ext cx="1463760" cy="1843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ihandform 41"/>
          <p:cNvSpPr/>
          <p:nvPr/>
        </p:nvSpPr>
        <p:spPr>
          <a:xfrm>
            <a:off x="364176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ihandform 42"/>
          <p:cNvSpPr/>
          <p:nvPr/>
        </p:nvSpPr>
        <p:spPr>
          <a:xfrm>
            <a:off x="4921200" y="4937040"/>
            <a:ext cx="184320" cy="824040"/>
          </a:xfrm>
          <a:custGeom>
            <a:avLst/>
            <a:gdLst>
              <a:gd name="textAreaLeft" fmla="*/ 0 w 184320"/>
              <a:gd name="textAreaRight" fmla="*/ 184680 w 1843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ihandform 43"/>
          <p:cNvSpPr/>
          <p:nvPr/>
        </p:nvSpPr>
        <p:spPr>
          <a:xfrm>
            <a:off x="181296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ihandform 44"/>
          <p:cNvSpPr/>
          <p:nvPr/>
        </p:nvSpPr>
        <p:spPr>
          <a:xfrm>
            <a:off x="318456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ihandform 45"/>
          <p:cNvSpPr/>
          <p:nvPr/>
        </p:nvSpPr>
        <p:spPr>
          <a:xfrm>
            <a:off x="510552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ihandform 46"/>
          <p:cNvSpPr/>
          <p:nvPr/>
        </p:nvSpPr>
        <p:spPr>
          <a:xfrm>
            <a:off x="349200" y="4754520"/>
            <a:ext cx="1494000" cy="182520"/>
          </a:xfrm>
          <a:custGeom>
            <a:avLst/>
            <a:gdLst>
              <a:gd name="textAreaLeft" fmla="*/ 0 w 1494000"/>
              <a:gd name="textAreaRight" fmla="*/ 1494360 w 149400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ihandform 47"/>
          <p:cNvSpPr/>
          <p:nvPr/>
        </p:nvSpPr>
        <p:spPr>
          <a:xfrm>
            <a:off x="3641760" y="4754520"/>
            <a:ext cx="1463760" cy="1825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ihandform 48"/>
          <p:cNvSpPr/>
          <p:nvPr/>
        </p:nvSpPr>
        <p:spPr>
          <a:xfrm>
            <a:off x="349200" y="4479840"/>
            <a:ext cx="1463760" cy="1843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ihandform 49"/>
          <p:cNvSpPr/>
          <p:nvPr/>
        </p:nvSpPr>
        <p:spPr>
          <a:xfrm>
            <a:off x="166680" y="4479840"/>
            <a:ext cx="182520" cy="1843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reihandform 50"/>
          <p:cNvSpPr/>
          <p:nvPr/>
        </p:nvSpPr>
        <p:spPr>
          <a:xfrm>
            <a:off x="1812960" y="4479840"/>
            <a:ext cx="182520" cy="1843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reihandform 51"/>
          <p:cNvSpPr/>
          <p:nvPr/>
        </p:nvSpPr>
        <p:spPr>
          <a:xfrm>
            <a:off x="166680" y="4754520"/>
            <a:ext cx="182520" cy="1825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reihandform 52"/>
          <p:cNvSpPr/>
          <p:nvPr/>
        </p:nvSpPr>
        <p:spPr>
          <a:xfrm>
            <a:off x="1843200" y="4754520"/>
            <a:ext cx="1341360" cy="182520"/>
          </a:xfrm>
          <a:custGeom>
            <a:avLst/>
            <a:gdLst>
              <a:gd name="textAreaLeft" fmla="*/ 0 w 1341360"/>
              <a:gd name="textAreaRight" fmla="*/ 1341720 w 13413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ihandform 53"/>
          <p:cNvSpPr/>
          <p:nvPr/>
        </p:nvSpPr>
        <p:spPr>
          <a:xfrm>
            <a:off x="3184560" y="4754520"/>
            <a:ext cx="182520" cy="1825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eihandform 54"/>
          <p:cNvSpPr/>
          <p:nvPr/>
        </p:nvSpPr>
        <p:spPr>
          <a:xfrm>
            <a:off x="3459240" y="4754520"/>
            <a:ext cx="182520" cy="1825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ihandform 55"/>
          <p:cNvSpPr/>
          <p:nvPr/>
        </p:nvSpPr>
        <p:spPr>
          <a:xfrm>
            <a:off x="5105520" y="4754520"/>
            <a:ext cx="182520" cy="1825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reihandform 56"/>
          <p:cNvSpPr/>
          <p:nvPr/>
        </p:nvSpPr>
        <p:spPr>
          <a:xfrm>
            <a:off x="2270160" y="4479840"/>
            <a:ext cx="1371600" cy="1843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ihandform 57"/>
          <p:cNvSpPr/>
          <p:nvPr/>
        </p:nvSpPr>
        <p:spPr>
          <a:xfrm>
            <a:off x="2087640" y="4479840"/>
            <a:ext cx="182520" cy="1843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reihandform 58"/>
          <p:cNvSpPr/>
          <p:nvPr/>
        </p:nvSpPr>
        <p:spPr>
          <a:xfrm>
            <a:off x="208764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ihandform 59"/>
          <p:cNvSpPr/>
          <p:nvPr/>
        </p:nvSpPr>
        <p:spPr>
          <a:xfrm>
            <a:off x="510552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reihandform 60"/>
          <p:cNvSpPr/>
          <p:nvPr/>
        </p:nvSpPr>
        <p:spPr>
          <a:xfrm>
            <a:off x="5105520" y="4479840"/>
            <a:ext cx="182520" cy="1843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ihandform 61"/>
          <p:cNvSpPr/>
          <p:nvPr/>
        </p:nvSpPr>
        <p:spPr>
          <a:xfrm>
            <a:off x="1843200" y="4937040"/>
            <a:ext cx="1341360" cy="184320"/>
          </a:xfrm>
          <a:custGeom>
            <a:avLst/>
            <a:gdLst>
              <a:gd name="textAreaLeft" fmla="*/ 0 w 1341360"/>
              <a:gd name="textAreaRight" fmla="*/ 1341720 w 13413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ihandform 62"/>
          <p:cNvSpPr/>
          <p:nvPr/>
        </p:nvSpPr>
        <p:spPr>
          <a:xfrm>
            <a:off x="2270160" y="4297320"/>
            <a:ext cx="1371600" cy="182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feld 63"/>
          <p:cNvSpPr/>
          <p:nvPr/>
        </p:nvSpPr>
        <p:spPr>
          <a:xfrm>
            <a:off x="5472000" y="1273320"/>
            <a:ext cx="36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Global domain hal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- described by modif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feld 64"/>
          <p:cNvSpPr/>
          <p:nvPr/>
        </p:nvSpPr>
        <p:spPr>
          <a:xfrm>
            <a:off x="5472000" y="3670200"/>
            <a:ext cx="36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ocal sub-domain hal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epend on stencil ex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ocal border definition done by user-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feld 65"/>
          <p:cNvSpPr/>
          <p:nvPr/>
        </p:nvSpPr>
        <p:spPr>
          <a:xfrm>
            <a:off x="214200" y="2995560"/>
            <a:ext cx="437220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  <a:ea typeface="Tahoma"/>
              </a:rPr>
              <a:t>M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i</a:t>
            </a:r>
            <a:r>
              <a:rPr b="0" lang="de-DE" sz="1800" spc="-1" strike="noStrike">
                <a:solidFill>
                  <a:srgbClr val="c00000"/>
                </a:solidFill>
                <a:latin typeface="Tahoma"/>
                <a:ea typeface="Tahom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r>
              <a:rPr b="0" lang="de-DE" sz="1800" spc="-1" strike="noStrike">
                <a:solidFill>
                  <a:srgbClr val="c00000"/>
                </a:solidFill>
                <a:latin typeface="Tahoma"/>
                <a:ea typeface="Tahoma"/>
              </a:rPr>
              <a:t> </a:t>
            </a:r>
            <a:r>
              <a:rPr b="0" lang="de-DE" sz="1800" spc="-1" strike="noStrike">
                <a:solidFill>
                  <a:srgbClr val="0070c0"/>
                </a:solidFill>
                <a:latin typeface="Tahoma"/>
                <a:ea typeface="Tahoma"/>
              </a:rPr>
              <a:t>Source</a:t>
            </a:r>
            <a:r>
              <a:rPr b="0" lang="de-DE" sz="1800" spc="-1" strike="noStrike" baseline="-25000">
                <a:solidFill>
                  <a:srgbClr val="0070c0"/>
                </a:solidFill>
                <a:latin typeface="Tahoma"/>
                <a:ea typeface="Tahoma"/>
              </a:rPr>
              <a:t>i       </a:t>
            </a:r>
            <a:r>
              <a:rPr b="0" lang="en-US" sz="1800" spc="-1" strike="noStrike" baseline="-25000">
                <a:solidFill>
                  <a:srgbClr val="0070c0"/>
                </a:solidFill>
                <a:latin typeface="Tahoma"/>
                <a:ea typeface="Tahoma"/>
              </a:rPr>
              <a:t>   </a:t>
            </a:r>
            <a:r>
              <a:rPr b="0" lang="de-DE" sz="1800" spc="-1" strike="noStrike">
                <a:solidFill>
                  <a:srgbClr val="c00000"/>
                </a:solidFill>
                <a:latin typeface="Tahoma"/>
                <a:ea typeface="Tahoma"/>
              </a:rPr>
              <a:t>          Target</a:t>
            </a:r>
            <a:r>
              <a:rPr b="0" lang="de-DE" sz="1800" spc="-1" strike="noStrike" baseline="-25000">
                <a:solidFill>
                  <a:srgbClr val="c00000"/>
                </a:solidFill>
                <a:latin typeface="Tahoma"/>
                <a:ea typeface="Tahoma"/>
              </a:rPr>
              <a:t>i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Nach unten gekrümmter Pfeil 66"/>
          <p:cNvSpPr/>
          <p:nvPr/>
        </p:nvSpPr>
        <p:spPr>
          <a:xfrm>
            <a:off x="441360" y="1449360"/>
            <a:ext cx="4572000" cy="638280"/>
          </a:xfrm>
          <a:custGeom>
            <a:avLst/>
            <a:gdLst>
              <a:gd name="textAreaLeft" fmla="*/ 1082880 w 4572000"/>
              <a:gd name="textAreaRight" fmla="*/ 3409200 w 4572000"/>
              <a:gd name="textAreaTop" fmla="*/ 85320 h 638280"/>
              <a:gd name="textAreaBottom" fmla="*/ 552960 h 638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235" hR="21600" stAng="10800000" swAng="5400000"/>
                <a:lnTo>
                  <a:pt x="10989" y="0"/>
                </a:lnTo>
                <a:arcTo wR="10235" hR="21600" stAng="-5400000" swAng="3684760"/>
                <a:lnTo>
                  <a:pt x="21275" y="16200"/>
                </a:lnTo>
                <a:lnTo>
                  <a:pt x="20846" y="21600"/>
                </a:lnTo>
                <a:lnTo>
                  <a:pt x="19767" y="16200"/>
                </a:lnTo>
                <a:lnTo>
                  <a:pt x="20144" y="16200"/>
                </a:lnTo>
                <a:arcTo wR="10235" hR="21600" stAng="-1715240" swAng="-3624724"/>
                <a:lnTo>
                  <a:pt x="10612" y="15"/>
                </a:lnTo>
                <a:arcTo wR="10235" hR="21600" stAng="-5460036" swAng="-5339964"/>
                <a:close/>
              </a:path>
              <a:path fill="darkenLess" w="21600" h="21600">
                <a:moveTo>
                  <a:pt x="0" y="21600"/>
                </a:moveTo>
                <a:arcTo wR="10235" hR="21600" stAng="10800000" swAng="5400000"/>
                <a:lnTo>
                  <a:pt x="10235" y="0"/>
                </a:lnTo>
                <a:arcTo wR="10235" hR="21600" stAng="-5400000" swAng="60036"/>
                <a:lnTo>
                  <a:pt x="10612" y="15"/>
                </a:lnTo>
                <a:arcTo wR="10235" hR="21600" stAng="-5460036" swAng="-5339964"/>
                <a:close/>
              </a:path>
            </a:pathLst>
          </a:cu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Nach unten gekrümmter Pfeil 67"/>
          <p:cNvSpPr/>
          <p:nvPr/>
        </p:nvSpPr>
        <p:spPr>
          <a:xfrm rot="10800000">
            <a:off x="136440" y="2374200"/>
            <a:ext cx="4572000" cy="639720"/>
          </a:xfrm>
          <a:custGeom>
            <a:avLst/>
            <a:gdLst>
              <a:gd name="textAreaLeft" fmla="*/ 1082880 w 4572000"/>
              <a:gd name="textAreaRight" fmla="*/ 3409200 w 4572000"/>
              <a:gd name="textAreaTop" fmla="*/ 85680 h 639720"/>
              <a:gd name="textAreaBottom" fmla="*/ 554040 h 639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234" hR="21600" stAng="10800000" swAng="5400000"/>
                <a:lnTo>
                  <a:pt x="10989" y="0"/>
                </a:lnTo>
                <a:arcTo wR="10234" hR="21600" stAng="-5400000" swAng="3684619"/>
                <a:lnTo>
                  <a:pt x="21275" y="16200"/>
                </a:lnTo>
                <a:lnTo>
                  <a:pt x="20845" y="21600"/>
                </a:lnTo>
                <a:lnTo>
                  <a:pt x="19764" y="16200"/>
                </a:lnTo>
                <a:lnTo>
                  <a:pt x="20142" y="16200"/>
                </a:lnTo>
                <a:arcTo wR="10234" hR="21600" stAng="-1715381" swAng="-3624503"/>
                <a:lnTo>
                  <a:pt x="10611" y="15"/>
                </a:lnTo>
                <a:arcTo wR="10234" hR="21600" stAng="-5460116" swAng="-5339884"/>
                <a:close/>
              </a:path>
              <a:path fill="darkenLess" w="21600" h="21600">
                <a:moveTo>
                  <a:pt x="0" y="21600"/>
                </a:moveTo>
                <a:arcTo wR="10234" hR="21600" stAng="10800000" swAng="5400000"/>
                <a:lnTo>
                  <a:pt x="10234" y="0"/>
                </a:lnTo>
                <a:arcTo wR="10234" hR="21600" stAng="-5400000" swAng="60116"/>
                <a:lnTo>
                  <a:pt x="10611" y="15"/>
                </a:lnTo>
                <a:arcTo wR="10234" hR="21600" stAng="-5460116" swAng="-5339884"/>
                <a:close/>
              </a:path>
            </a:pathLst>
          </a:cu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feil nach rechts 68"/>
          <p:cNvSpPr/>
          <p:nvPr/>
        </p:nvSpPr>
        <p:spPr>
          <a:xfrm>
            <a:off x="1874880" y="3166920"/>
            <a:ext cx="547560" cy="179640"/>
          </a:xfrm>
          <a:prstGeom prst="rightArrow">
            <a:avLst>
              <a:gd name="adj1" fmla="val 50000"/>
              <a:gd name="adj2" fmla="val 49912"/>
            </a:avLst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Inhaltsplatzhalter 6" descr=""/>
          <p:cNvPicPr/>
          <p:nvPr/>
        </p:nvPicPr>
        <p:blipFill>
          <a:blip r:embed="rId1"/>
          <a:srcRect l="0" t="0" r="0" b="27138"/>
          <a:stretch/>
        </p:blipFill>
        <p:spPr>
          <a:xfrm>
            <a:off x="654120" y="2009880"/>
            <a:ext cx="7835760" cy="343512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763280" y="404280"/>
            <a:ext cx="673884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MPIOM 3d-bounds-exchange measur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58546-4206-4DBE-BBAF-B65AB26FDE12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0FE98-D12C-49BE-888A-AA15542184A8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feld 8"/>
          <p:cNvSpPr/>
          <p:nvPr/>
        </p:nvSpPr>
        <p:spPr>
          <a:xfrm>
            <a:off x="1403280" y="141444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written – requires symmetric regular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feld 9"/>
          <p:cNvSpPr/>
          <p:nvPr/>
        </p:nvSpPr>
        <p:spPr>
          <a:xfrm>
            <a:off x="5508720" y="14144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rans/YAXT genera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336E2-C910-4C4B-854F-8ACC118906E1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E36E0-69E1-460B-A5E4-D62B9AEC1022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92040" y="34920"/>
            <a:ext cx="82296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MPIOM [TP04L40: 8x4] Load Bal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3" name="Grafik 17" descr=""/>
          <p:cNvPicPr/>
          <p:nvPr/>
        </p:nvPicPr>
        <p:blipFill>
          <a:blip r:embed="rId1"/>
          <a:stretch/>
        </p:blipFill>
        <p:spPr>
          <a:xfrm>
            <a:off x="63360" y="1089000"/>
            <a:ext cx="5029200" cy="2532240"/>
          </a:xfrm>
          <a:prstGeom prst="rect">
            <a:avLst/>
          </a:prstGeom>
          <a:ln w="0">
            <a:noFill/>
          </a:ln>
        </p:spPr>
      </p:pic>
      <p:pic>
        <p:nvPicPr>
          <p:cNvPr id="444" name="Grafik 18" descr=""/>
          <p:cNvPicPr/>
          <p:nvPr/>
        </p:nvPicPr>
        <p:blipFill>
          <a:blip r:embed="rId2"/>
          <a:stretch/>
        </p:blipFill>
        <p:spPr>
          <a:xfrm>
            <a:off x="55440" y="3875040"/>
            <a:ext cx="5029200" cy="2532240"/>
          </a:xfrm>
          <a:prstGeom prst="rect">
            <a:avLst/>
          </a:prstGeom>
          <a:ln w="0">
            <a:noFill/>
          </a:ln>
        </p:spPr>
      </p:pic>
      <p:sp>
        <p:nvSpPr>
          <p:cNvPr id="445" name="Textfeld 19"/>
          <p:cNvSpPr/>
          <p:nvPr/>
        </p:nvSpPr>
        <p:spPr>
          <a:xfrm>
            <a:off x="5472000" y="1268280"/>
            <a:ext cx="34210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et-point-only optim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orkload chang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Unfit legacy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Nothing ga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feld 20"/>
          <p:cNvSpPr/>
          <p:nvPr/>
        </p:nvSpPr>
        <p:spPr>
          <a:xfrm>
            <a:off x="5472000" y="3875040"/>
            <a:ext cx="360072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dapted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Old boundary exchange f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Reprogramming exchan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YAXT-formul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orks for both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Support asynchronous redistribu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-Place redistribu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Multi-Phase exchan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Use YAXT in MPIOM, ECHAM, ICON and CDI-P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Future pl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80F59-BB2E-4DEC-80A9-E05F1567D8D6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BB28A-4204-4C91-9D4A-66658E9AE5B6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262626"/>
                </a:solidFill>
                <a:latin typeface="Tahoma"/>
                <a:ea typeface="Tahoma"/>
              </a:rPr>
              <a:t>Questions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Documentation:</a:t>
            </a:r>
            <a:br>
              <a:rPr sz="2400"/>
            </a:br>
            <a:r>
              <a:rPr b="0" lang="en-GB" sz="2000" spc="-1" strike="noStrike" u="sng">
                <a:solidFill>
                  <a:srgbClr val="0000ff"/>
                </a:solidFill>
                <a:uFillTx/>
                <a:latin typeface="Tahoma"/>
                <a:ea typeface="Tahoma"/>
                <a:hlinkClick r:id="rId1"/>
              </a:rPr>
              <a:t>https://redmine.dkrz.de/doc/yaxt/html/index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Redmin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ff"/>
                </a:solidFill>
                <a:uFillTx/>
                <a:latin typeface="Tahoma"/>
                <a:ea typeface="Tahoma"/>
                <a:hlinkClick r:id="rId2"/>
              </a:rPr>
              <a:t>https://www.dkrz.de/redmine/projects/ya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Downloa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ff"/>
                </a:solidFill>
                <a:uFillTx/>
                <a:latin typeface="Tahoma"/>
                <a:ea typeface="Tahoma"/>
                <a:hlinkClick r:id="rId3"/>
              </a:rPr>
              <a:t>https://www.dkrz.de/redmine/projects/yaxt/wiki/Downloa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928600" y="423360"/>
            <a:ext cx="5429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404040"/>
              </a:solidFill>
              <a:latin typeface="Tahoma"/>
              <a:ea typeface="Tahoma"/>
            </a:endParaRPr>
          </a:p>
        </p:txBody>
      </p:sp>
      <p:sp>
        <p:nvSpPr>
          <p:cNvPr id="454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92818-1902-4DCA-A93E-FBEC03CF4F58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30272-F52C-43D4-8D64-02AB98B87891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itialis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Each process defines what data it has and what it wants (source and target decomposition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Generate a mapping between source and target decomposi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Generate data type specific redistribution object for a given mapp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ime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Do the ex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Finalis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Clean 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How it wor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D40CB-4551-49F4-836D-7E65FCE89731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F65E5-9E7F-44CA-9307-93F9946CF500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Assumptio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All data elements have the same memory layout and are stored in an array (C makes no difference between 1D and nD-array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Each data object has a unique global id (integer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A decomposition is a list of global data element i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he positions of the global ids within the set correspond to the positions of the respective data elements within the data array (if nothing else is said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efining a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CFF13-516B-4F61-B2CA-5599F5D13149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893B2-7D99-4484-9AA5-B0E61B9C45B3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o generate a mapping you need to provide the two decompositions and a MPI communica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he operation is collective for all processes within the given communica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mapping between src and tg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E45F6-D102-48B7-983B-C6CAF0D2CBA7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C6CF5-67CD-485B-8866-6DD0E7E09014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o generate a data specific redistribution object the user needs to provide a mapping object and the MPI data type for the data ele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t is possible to combine multiple existing redistribution objects (useful for aggregation of data exchange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data specific redistribution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54A0C-9B23-447E-885A-7A40AE1325C4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E26FB-0F1B-4CDE-B06C-9FEE4AB8DC66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o do the exchange the user needs to call the exchange routine and provide a redistribution object and the source and target array(s) (passed via C_LOC from Fortran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All objects generated by YAXT can be destroyed by calling the respective destruc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oing the exchange and clean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083D3-B854-4ABD-ABFE-994847312E4E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98A7E-2C7F-4148-A6B2-735A4D2A80A5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62626"/>
                </a:solidFill>
                <a:latin typeface="Tahoma"/>
                <a:ea typeface="Tahoma"/>
              </a:rPr>
              <a:t>Gather on rank 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1547640" y="2708280"/>
            <a:ext cx="5610240" cy="1457280"/>
          </a:xfrm>
          <a:prstGeom prst="rect">
            <a:avLst/>
          </a:prstGeom>
          <a:ln w="0">
            <a:noFill/>
          </a:ln>
        </p:spPr>
      </p:pic>
      <p:sp>
        <p:nvSpPr>
          <p:cNvPr id="177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F6B69-FDEC-4855-96BD-F460990D59CB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oliennummernplatzhalter 6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8D2E0-39B5-4027-9369-6F2F6AD979A3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07:51:59Z</dcterms:created>
  <dc:creator/>
  <dc:description/>
  <dc:language>en-US</dc:language>
  <cp:lastModifiedBy/>
  <dcterms:modified xsi:type="dcterms:W3CDTF">2013-06-07T09:37:03Z</dcterms:modified>
  <cp:revision>50</cp:revision>
  <dc:subject/>
  <dc:title>Introduction to YAXT</dc:title>
</cp:coreProperties>
</file>