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5200" y="-36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5200" y="936108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F2A6-8A6B-43BC-A9A5-9B25D73909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66C5-5685-4473-92B0-713C10FE0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source only uses single index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C0AF-27AB-49A2-8F80-94836CAAA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0FAA-7D7C-45E6-8854-456D775D6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B3D8-66E0-4DFA-846F-6F135846A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10E9-048A-4EF5-962A-DE868E621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olour symbolizes a process holding some part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nt on boundary ex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CE7E-C86C-4589-B221-6EB3CD53D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868B-AA4F-4A4A-A10F-BEEAB63B0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F0CD-52CD-4A61-8A30-D2471D822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ifiers are defined using Index-lis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hould be described in a compac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6368-0248-42BD-8F58-6B0C48D53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68AB-8E89-49E9-BDAF-F9E45F9D0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fixed offsets occur with dynamic ar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BA66-CBCB-471B-92D6-C553FE589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6832-DE59-48FF-B3EA-B0AFB5360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003C-4CAD-4633-AD63-EB48E2D6C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6CEA-03A0-4E00-90B1-EE153FC11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stalled on blizz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C929-14B8-401D-9871-7F958E221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B089-152A-4CD0-A30B-03E17910D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2733-7098-4F1F-B8AA-179FB6925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A890-182A-4B49-82B4-2D5048B85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D9FD-DCB1-43B5-9661-0BD7BF8C03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F986-004E-4E80-AFEC-363C7561A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52CD-17B5-4EAC-932D-A2144D1F7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3828-80F9-4CE0-BF6F-D34D82DF3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ay-Layout can be faked, we really only need properly aligned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simple example on white-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BA1F-2F3E-4E39-89D6-A166A1939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CABC-BAB9-4F8F-9356-D79F7C624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BC35-E355-4AEA-AF16-2858F4BFA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8385-8DD1-4AC6-B7B3-66A0F42CF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4289-D6FF-44F9-BE18-A3D526D14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DD03E-6B8A-4978-B4C1-CF7C0A6B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7F4D6-A653-4F51-9847-4C8333B2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536A4-C080-43DC-8B97-B1E242B7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1EDFB-8391-460D-BFCA-69AE4DE7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AAE00-68D9-452F-BD94-D226BA8A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398CA-5234-4A36-9FBB-4892ED10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BC960-2841-4798-B9BE-9BC7640C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C2862-8BD1-425D-B69B-24ADA672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A02D7-0773-473D-9E4C-FCD1FE0B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4D03-8596-4DB4-8BD3-8591F73B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F95CB-72FE-48BB-9E18-1697A21F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30D61-9962-4D88-8F99-2CBA20C3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42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5084640" y="785880"/>
            <a:ext cx="3273480" cy="1158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88920" y="6075360"/>
            <a:ext cx="1482840" cy="525600"/>
          </a:xfrm>
          <a:prstGeom prst="rect">
            <a:avLst/>
          </a:prstGeom>
          <a:ln w="0">
            <a:noFill/>
          </a:ln>
        </p:spPr>
      </p:pic>
      <p:sp>
        <p:nvSpPr>
          <p:cNvPr id="84" name="Rechteck 6"/>
          <p:cNvSpPr/>
          <p:nvPr/>
        </p:nvSpPr>
        <p:spPr>
          <a:xfrm>
            <a:off x="1726920" y="6121440"/>
            <a:ext cx="72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© DKRZ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Gerade Verbindung 7"/>
          <p:cNvSpPr/>
          <p:nvPr/>
        </p:nvSpPr>
        <p:spPr>
          <a:xfrm>
            <a:off x="3211560" y="6119640"/>
            <a:ext cx="1440" cy="4842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liennummernplatzhalter 5"/>
          <p:cNvSpPr/>
          <p:nvPr/>
        </p:nvSpPr>
        <p:spPr>
          <a:xfrm>
            <a:off x="8767800" y="6572160"/>
            <a:ext cx="420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feld 9"/>
          <p:cNvSpPr/>
          <p:nvPr/>
        </p:nvSpPr>
        <p:spPr>
          <a:xfrm>
            <a:off x="8750160" y="6573960"/>
            <a:ext cx="393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/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813096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04C1-07CB-45AC-B65F-C141056E965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2"/>
          </p:nvPr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BDEB-57A2-4507-A704-600FD91DFB9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3244680" y="6117840"/>
            <a:ext cx="2143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smr.ca.sandia.gov/~apinar/papers/siampp00.pdf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redmine.dkrz.de/doc/yaxt/html/index.html" TargetMode="External"/><Relationship Id="rId2" Type="http://schemas.openxmlformats.org/officeDocument/2006/relationships/hyperlink" Target="https://www.dkrz.de/redmine/projects/yaxt" TargetMode="External"/><Relationship Id="rId3" Type="http://schemas.openxmlformats.org/officeDocument/2006/relationships/hyperlink" Target="https://www.dkrz.de/redmine/projects/yaxt/wiki/Download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8640" y="37857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Tahoma"/>
                <a:ea typeface="Tahoma"/>
              </a:rPr>
              <a:t>(Yet Another eXchange Tool, DKRZ 2012-20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728640" y="2571840"/>
            <a:ext cx="77724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040"/>
                </a:solidFill>
                <a:latin typeface="Tahoma"/>
                <a:ea typeface="Tahoma"/>
              </a:rPr>
              <a:t>Introduction to YA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nt src_index = rank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src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(&amp;src_index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f (rank == 0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struct Xt_stripe tgt_stripe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{.start = 0, .nstrides = 4, .stride = 1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stripes_new(&amp;tgt_stripe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} 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xt_idxempty_new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6F07-ED4D-4973-A1EC-54245D9D939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16C8-C2C4-41FD-96CC-D22410A439C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xmap xmap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, tgt_idxli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4B03-8A30-42FB-888A-08A704E60F1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15DC-4FA2-4274-9F5F-AE08744D5DD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 redist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new(xmap, MPI_IN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170D-82CC-40CC-AE5B-6D8C7C5891E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5EF8-78FA-47E9-BABC-2FEE41B74F5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src_data[1] = {…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tgt_data[4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redist, src_data, tgt_data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delete(red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delete(xmap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tgt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src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6F7C-5D2B-4BD6-AF13-D33E1EC833C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4A74-B971-4D54-8A92-0BC9E3C213C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285920"/>
            <a:ext cx="822960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Transpose from row-wise to column-wis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C055-FB5F-4C16-88C6-7B102DDAE62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977B-2BB0-40E1-8C06-4E255A271C4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Inhaltsplatzhalter 1"/>
          <p:cNvSpPr/>
          <p:nvPr/>
        </p:nvSpPr>
        <p:spPr>
          <a:xfrm>
            <a:off x="468360" y="515772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xample program: </a:t>
            </a:r>
            <a:r>
              <a:rPr b="0" lang="en-US" sz="2400" spc="-1" strike="noStrike">
                <a:solidFill>
                  <a:srgbClr val="262626"/>
                </a:solidFill>
                <a:latin typeface="Courier New"/>
                <a:ea typeface="Tahoma"/>
              </a:rPr>
              <a:t>examples/row2col_f.f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afik 8" descr="row2col.png"/>
          <p:cNvPicPr/>
          <p:nvPr/>
        </p:nvPicPr>
        <p:blipFill>
          <a:blip r:embed="rId1"/>
          <a:stretch/>
        </p:blipFill>
        <p:spPr>
          <a:xfrm>
            <a:off x="446040" y="2349360"/>
            <a:ext cx="8251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INT(global_range(:, 2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row_part_range(2, :) –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row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08EB-C315-47DC-89ED-27EC6838629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CE81-C0DB-4A5F-88E4-2041878A762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INT(global_range(:,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–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col_part_range(2, :)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- col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column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2251-8D66-48B9-9504-38F0830C906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D145-E676-4BED-BF20-4611ACDCA78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global_range(1:2, 1:2) = RESHAPE((/ 1, 10, 1, 5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/ 2, 2 /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(/ 1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(/ 4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(/ 1, 10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(/ 10, 2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95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for 10x5 global shape and 2</a:t>
            </a:r>
            <a:r>
              <a:rPr b="0" lang="en-US" sz="3200" spc="-1" strike="noStrike" baseline="30000">
                <a:solidFill>
                  <a:srgbClr val="404040"/>
                </a:solidFill>
                <a:latin typeface="Tahoma"/>
                <a:ea typeface="Tahoma"/>
              </a:rPr>
              <a:t>nd</a:t>
            </a: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 (= MPI rank 1) of 3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6CE1-023C-4824-B45F-C86F8867A16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98BF-D47F-4C9A-A25D-8F584CCF0C6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tgt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decomposition descri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BBF8-A117-4141-AB56-03DBB1DC5F5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C448-5F4F-42CB-A817-F07D4C811E9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exchange 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xmap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xmap_all2all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, tgt_idxlist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redistribution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ed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p2p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xmap, mpi_double_preci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mapping and re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9599-7E08-4AC3-898E-7CBAEB102E6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1548-E381-47B7-9763-125CFFDC7F7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2855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f data between two sets of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What it d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048720" cy="4122720"/>
          </a:xfrm>
          <a:prstGeom prst="rect">
            <a:avLst/>
          </a:prstGeom>
          <a:ln w="0">
            <a:noFill/>
          </a:ln>
        </p:spPr>
      </p:pic>
      <p:sp>
        <p:nvSpPr>
          <p:cNvPr id="141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44D0-9A9E-48CE-B1A3-B82CE2EA349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C6AB-6A71-4B9A-A723-25620AC3F18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prepare array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ALLOCATE(src_array(row_part_range(1, 1):row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row_part_range(1, 2):row_part_range(2, 2)),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tgt_array(col_part_range(1, 1):col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col_part_range(1, 2):col_part_range(2, 2)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j = row_part_range(1, 2), row_part_range(2, 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i = row_part_range(1, 1), row_part_range(2, 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src_array(i, j) = DBLE(i * j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do the excha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s_exchange1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(redist, C_LOC(src_array), C_LOC(tgt_array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ll source array and redistrib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D9E2-FFC9-4A92-9BBF-C838FD30B3C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E3C5-3C64-4361-8216-304D4B26AB3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clean up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DEALLOCATE(tgt_array, src_arra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red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xmap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xma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tgt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finali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finaliz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mpi_finalize(ierror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IF (ierror /= mpi_success) STOP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nish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4ECF-EA60-4B89-AD63-CB1B1F3B7CF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021E-9C60-4602-9764-FDC7BCD4F2E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s (Xt_idxlist) describe subsets of indices within the global index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global index space can be any list of ind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re are multiple methods for constructing index lis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FF1D-B644-4D26-AFC0-2B314540D92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A441-F84F-4B65-A544-596F360F4EB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rbitrary list of indic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626"/>
                </a:solidFill>
                <a:latin typeface="Tahoma"/>
                <a:ea typeface="Tahoma"/>
              </a:rPr>
              <a:t>[0,3,32,26,44,14,48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ist of stripes: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[start = 0, nstrides = 3, stride = 2], [start = 1, nstrides = 2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stride = 2]] == [0,2,4,1,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N-dimensional block of indices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start = 0, num_dimension = 2, global_size = [5,5]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ocal_size = [3,3], local_start = [1,1]] == [6,7,8,11,12,13,16,17,18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43BF-9B5D-4892-A8E1-B1EBDB37323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7E8C-CA58-45F4-B833-4E512EE5229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Combination of a number of index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The modifier allows to define a mapping between ind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s create a new index list from an existing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: I =[0,1,2,3,4,5]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: </a:t>
            </a: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 = [0,2,4,6,8,10]-&gt;[10,8,6,4,2,0]</a:t>
            </a:r>
            <a:br>
              <a:rPr sz="2000"/>
            </a:b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(I)=[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10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1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8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3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6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5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ADC9-1330-4F3E-AFD5-6A6E57BE23D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DC21-85F1-43FE-B8C8-B52D25C4582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285560"/>
            <a:ext cx="822960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Exchange maps (Xt_xmap) determine communication partners and what data needs to be exchanged, based on th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very process sends its src and tgt list to all othe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Rendezvous algorithm[1] based on a distributed directory of global indices is used to avoid all to all communication patt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33A4-C850-451A-AA07-F90F1418599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0737-0DDF-42FC-9EFF-4A636E5C633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feld 6"/>
          <p:cNvSpPr/>
          <p:nvPr/>
        </p:nvSpPr>
        <p:spPr>
          <a:xfrm>
            <a:off x="468360" y="46530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. Pinar and B. Hendrickson, </a:t>
            </a:r>
            <a:r>
              <a:rPr b="0" lang="de-DE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ommunication Support for Adaptive Computation}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in Proc. SIAM Conf. on Parallel Processing for Scientific Computing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bjects (Xt_redist) can be built for every non-null MPI data type (basic types, structs, vector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ternally YAXT will build MPI data type for every required exchange </a:t>
            </a:r>
            <a:r>
              <a:rPr b="0" lang="en-GB" sz="24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 no buffers are required for the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or a combined redistribution object YAXT will also build MPI data types even if the associated input arrays have no fixed offset between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6649-5904-4C15-B591-6A2D99928A2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9E3B-4456-4FD9-8ECC-ABB7FF6C6D8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YAXT currently supports blocking redistribution of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F80C-38BC-41AE-809F-D353680CDEF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50CB-E992-4240-98AF-AB2BD79FBCF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gp_3d_idxvec(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gp_3d_vol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ndex, 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ew_gp_3d_idxvec = </a:t>
            </a:r>
            <a:r>
              <a:rPr b="1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gp_3d_idxve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351B-BF4C-4011-9D80-9BE7338ACEB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F2C5-EAF0-4C92-A29F-1C32ABA5A86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hteck 7"/>
          <p:cNvSpPr/>
          <p:nvPr/>
        </p:nvSpPr>
        <p:spPr>
          <a:xfrm>
            <a:off x="6004080" y="1474920"/>
            <a:ext cx="7189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hteck 9"/>
          <p:cNvSpPr/>
          <p:nvPr/>
        </p:nvSpPr>
        <p:spPr>
          <a:xfrm>
            <a:off x="6006960" y="18334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hteck 10"/>
          <p:cNvSpPr/>
          <p:nvPr/>
        </p:nvSpPr>
        <p:spPr>
          <a:xfrm>
            <a:off x="6723000" y="1474920"/>
            <a:ext cx="720720" cy="358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hteck 11"/>
          <p:cNvSpPr/>
          <p:nvPr/>
        </p:nvSpPr>
        <p:spPr>
          <a:xfrm>
            <a:off x="6726240" y="21985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hteck 12"/>
          <p:cNvSpPr/>
          <p:nvPr/>
        </p:nvSpPr>
        <p:spPr>
          <a:xfrm>
            <a:off x="6726240" y="18273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hteck 13"/>
          <p:cNvSpPr/>
          <p:nvPr/>
        </p:nvSpPr>
        <p:spPr>
          <a:xfrm>
            <a:off x="6004080" y="219852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hteck 14"/>
          <p:cNvSpPr/>
          <p:nvPr/>
        </p:nvSpPr>
        <p:spPr>
          <a:xfrm>
            <a:off x="600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hteck 15"/>
          <p:cNvSpPr/>
          <p:nvPr/>
        </p:nvSpPr>
        <p:spPr>
          <a:xfrm>
            <a:off x="6732720" y="2565360"/>
            <a:ext cx="718920" cy="35892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hteck 16"/>
          <p:cNvSpPr/>
          <p:nvPr/>
        </p:nvSpPr>
        <p:spPr>
          <a:xfrm>
            <a:off x="7443720" y="1474920"/>
            <a:ext cx="7207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hteck 17"/>
          <p:cNvSpPr/>
          <p:nvPr/>
        </p:nvSpPr>
        <p:spPr>
          <a:xfrm>
            <a:off x="8164440" y="1474920"/>
            <a:ext cx="71928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hteck 18"/>
          <p:cNvSpPr/>
          <p:nvPr/>
        </p:nvSpPr>
        <p:spPr>
          <a:xfrm>
            <a:off x="7443720" y="18241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hteck 19"/>
          <p:cNvSpPr/>
          <p:nvPr/>
        </p:nvSpPr>
        <p:spPr>
          <a:xfrm>
            <a:off x="8164440" y="181440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hteck 20"/>
          <p:cNvSpPr/>
          <p:nvPr/>
        </p:nvSpPr>
        <p:spPr>
          <a:xfrm>
            <a:off x="7451640" y="220500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ck 21"/>
          <p:cNvSpPr/>
          <p:nvPr/>
        </p:nvSpPr>
        <p:spPr>
          <a:xfrm>
            <a:off x="744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ck 22"/>
          <p:cNvSpPr/>
          <p:nvPr/>
        </p:nvSpPr>
        <p:spPr>
          <a:xfrm>
            <a:off x="8166240" y="22035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ck 23"/>
          <p:cNvSpPr/>
          <p:nvPr/>
        </p:nvSpPr>
        <p:spPr>
          <a:xfrm>
            <a:off x="8166240" y="256536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ffsl_3d_idxvec(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ffsl_3d_vo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p, index, 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k = ffsl_kstack(kk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ew_ffsl_3d_idxvec = </a:t>
            </a:r>
            <a:r>
              <a:rPr b="1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ffsl_3d_idxvec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D89A-9192-425F-9440-729F4F028DB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7FDA-A7A0-4064-81A5-B5B192494CE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hteck 24"/>
          <p:cNvSpPr/>
          <p:nvPr/>
        </p:nvSpPr>
        <p:spPr>
          <a:xfrm>
            <a:off x="5867280" y="196848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hteck 25"/>
          <p:cNvSpPr/>
          <p:nvPr/>
        </p:nvSpPr>
        <p:spPr>
          <a:xfrm>
            <a:off x="5865840" y="232884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hteck 26"/>
          <p:cNvSpPr/>
          <p:nvPr/>
        </p:nvSpPr>
        <p:spPr>
          <a:xfrm>
            <a:off x="586728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Library on top of M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nspired by Fortran Prototype </a:t>
            </a:r>
            <a:r>
              <a:rPr b="0" i="1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nitrans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by Mathias Pütz in ScalES-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mplemented in C </a:t>
            </a:r>
            <a:r>
              <a:rPr b="0" lang="de-DE" sz="2800" spc="-1" strike="noStrike">
                <a:solidFill>
                  <a:srgbClr val="262626"/>
                </a:solidFill>
                <a:latin typeface="Cambria Math"/>
                <a:ea typeface="Cambria Math"/>
              </a:rPr>
              <a:t>⇒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type invari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Fully-featured Fortran interface (requires C-inte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ed by DKR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BSD lice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Git and SVN-readonly mirror repositories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ses pkg-config (</a:t>
            </a:r>
            <a:r>
              <a:rPr b="0" lang="de-DE" sz="2400" spc="-1" strike="noStrike">
                <a:solidFill>
                  <a:srgbClr val="262626"/>
                </a:solidFill>
                <a:latin typeface="Courier New"/>
                <a:ea typeface="Tahoma"/>
              </a:rPr>
              <a:t>pkg-config --cflags yaxt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040"/>
                </a:solidFill>
                <a:latin typeface="Tahoma"/>
                <a:ea typeface="Tahoma"/>
              </a:rPr>
              <a:t>Some re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99F4-E887-4F33-B610-8B7B5576B47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F160-4451-472B-8D72-820D63292A7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gp_3d_off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proma, nlev, ngpblk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b, ia, index, 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b = 1, ngpblk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a = 1, npro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a,k,ib) = 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ia +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F (ia &gt; nproma) THE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ib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I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a,k,ib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gp_3d_of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5486-0F3F-4653-AA31-89088BB5D4B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F6AD-6A4F-4FB4-8FD5-976966AF74A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ck 7"/>
          <p:cNvSpPr/>
          <p:nvPr/>
        </p:nvSpPr>
        <p:spPr>
          <a:xfrm>
            <a:off x="601200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hteck 9"/>
          <p:cNvSpPr/>
          <p:nvPr/>
        </p:nvSpPr>
        <p:spPr>
          <a:xfrm>
            <a:off x="601200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hteck 10"/>
          <p:cNvSpPr/>
          <p:nvPr/>
        </p:nvSpPr>
        <p:spPr>
          <a:xfrm>
            <a:off x="6732720" y="1268280"/>
            <a:ext cx="7189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hteck 11"/>
          <p:cNvSpPr/>
          <p:nvPr/>
        </p:nvSpPr>
        <p:spPr>
          <a:xfrm>
            <a:off x="6732720" y="198288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12"/>
          <p:cNvSpPr/>
          <p:nvPr/>
        </p:nvSpPr>
        <p:spPr>
          <a:xfrm>
            <a:off x="6732720" y="1619280"/>
            <a:ext cx="7189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hteck 13"/>
          <p:cNvSpPr/>
          <p:nvPr/>
        </p:nvSpPr>
        <p:spPr>
          <a:xfrm>
            <a:off x="6012000" y="19828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hteck 14"/>
          <p:cNvSpPr/>
          <p:nvPr/>
        </p:nvSpPr>
        <p:spPr>
          <a:xfrm>
            <a:off x="601200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hteck 15"/>
          <p:cNvSpPr/>
          <p:nvPr/>
        </p:nvSpPr>
        <p:spPr>
          <a:xfrm>
            <a:off x="6732720" y="2347920"/>
            <a:ext cx="7207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hteck 16"/>
          <p:cNvSpPr/>
          <p:nvPr/>
        </p:nvSpPr>
        <p:spPr>
          <a:xfrm>
            <a:off x="745164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hteck 17"/>
          <p:cNvSpPr/>
          <p:nvPr/>
        </p:nvSpPr>
        <p:spPr>
          <a:xfrm>
            <a:off x="817236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hteck 18"/>
          <p:cNvSpPr/>
          <p:nvPr/>
        </p:nvSpPr>
        <p:spPr>
          <a:xfrm>
            <a:off x="7451640" y="161928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hteck 19"/>
          <p:cNvSpPr/>
          <p:nvPr/>
        </p:nvSpPr>
        <p:spPr>
          <a:xfrm>
            <a:off x="817236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hteck 20"/>
          <p:cNvSpPr/>
          <p:nvPr/>
        </p:nvSpPr>
        <p:spPr>
          <a:xfrm>
            <a:off x="745164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hteck 21"/>
          <p:cNvSpPr/>
          <p:nvPr/>
        </p:nvSpPr>
        <p:spPr>
          <a:xfrm>
            <a:off x="745164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hteck 22"/>
          <p:cNvSpPr/>
          <p:nvPr/>
        </p:nvSpPr>
        <p:spPr>
          <a:xfrm>
            <a:off x="817236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hteck 23"/>
          <p:cNvSpPr/>
          <p:nvPr/>
        </p:nvSpPr>
        <p:spPr>
          <a:xfrm>
            <a:off x="8172360" y="234792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hteck 24"/>
          <p:cNvSpPr/>
          <p:nvPr/>
        </p:nvSpPr>
        <p:spPr>
          <a:xfrm>
            <a:off x="3552840" y="2311560"/>
            <a:ext cx="1944720" cy="18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hteck 26"/>
          <p:cNvSpPr/>
          <p:nvPr/>
        </p:nvSpPr>
        <p:spPr>
          <a:xfrm>
            <a:off x="3552840" y="2519280"/>
            <a:ext cx="1944720" cy="187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feld 6"/>
          <p:cNvSpPr/>
          <p:nvPr/>
        </p:nvSpPr>
        <p:spPr>
          <a:xfrm>
            <a:off x="6536520" y="28558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index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27"/>
          <p:cNvSpPr/>
          <p:nvPr/>
        </p:nvSpPr>
        <p:spPr>
          <a:xfrm>
            <a:off x="3792960" y="286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off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Gerade Verbindung mit Pfeil 28"/>
          <p:cNvCxnSpPr/>
          <p:nvPr/>
        </p:nvCxnSpPr>
        <p:spPr>
          <a:xfrm flipH="1">
            <a:off x="3552120" y="1268280"/>
            <a:ext cx="3188520" cy="1043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32" name="Gerade Verbindung mit Pfeil 31"/>
          <p:cNvCxnSpPr/>
          <p:nvPr/>
        </p:nvCxnSpPr>
        <p:spPr>
          <a:xfrm flipH="1">
            <a:off x="4858920" y="2358720"/>
            <a:ext cx="1882080" cy="1306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33" name="Rechteck 38"/>
          <p:cNvSpPr/>
          <p:nvPr/>
        </p:nvSpPr>
        <p:spPr>
          <a:xfrm>
            <a:off x="5054760" y="2617920"/>
            <a:ext cx="433080" cy="8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feld 41"/>
          <p:cNvSpPr/>
          <p:nvPr/>
        </p:nvSpPr>
        <p:spPr>
          <a:xfrm>
            <a:off x="3492360" y="386064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to offset rel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th local index corresponds to p-th local offs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j,k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a,k,i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ffsl_3d_off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lon, ffsl_nlat, ffsl_nlev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ic, jc, kc, p, index, 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c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c = ffsl_nlat, 1, -1 ! change in j-ori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c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c, jc, kc) = 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kc = k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jc = j-ffsl_gp_lat1+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c =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c, jc, k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ffsl_3d_of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272F-51D9-4BB7-9EFD-40869318B51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D42E-5962-452D-B7DB-7858ECF0552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hteck 24"/>
          <p:cNvSpPr/>
          <p:nvPr/>
        </p:nvSpPr>
        <p:spPr>
          <a:xfrm>
            <a:off x="5865840" y="197172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hteck 25"/>
          <p:cNvSpPr/>
          <p:nvPr/>
        </p:nvSpPr>
        <p:spPr>
          <a:xfrm>
            <a:off x="5865840" y="233352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hteck 26"/>
          <p:cNvSpPr/>
          <p:nvPr/>
        </p:nvSpPr>
        <p:spPr>
          <a:xfrm>
            <a:off x="586584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fin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USE ya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::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, ffsl_3d_idxl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xmap) :: 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ALLOCATABLE ::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(:), ffsl_3d_off(: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redist), SAVE :: 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compos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gp_3d_idxvec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ffsl_3d_idxstripes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Init xmap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 model_com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Offset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gp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ffsl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Red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off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p_real_d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Usage in the model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gp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ffsl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u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5D10-4EFC-43D1-800C-D381E7E5D93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139E-9139-4344-9F13-7CA25433CA3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ifferent exchange kinds, each of th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behaves differently at global domain boundar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p_exch_kind      =  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plus_exch_kind  =  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_exch_kind      =  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u_exch_kind     =  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plus_exch_kind  =  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_exch_kind      =  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v_exch_kind     =  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f_exch_kind     =  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_exch_kind      =  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minus_exch_kind = 1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Usage of yaxt-modifiers to simplify definitions o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ecomposi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MPIOM bounds-exchange with mod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00C6-8CD2-4E8D-940E-A5A49E50D9B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0D9D-BDCF-4D86-A033-F7672B3F8A7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547640" y="1557360"/>
          <a:ext cx="260208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440"/>
                <a:gridCol w="434880"/>
                <a:gridCol w="433440"/>
                <a:gridCol w="43344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Simplified incomplete bounds-exchange exam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1593-0E3C-4E3D-819C-2A31EA46ACF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2784-4633-42D8-B9EE-9EC3BAAA421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148360" y="1557360"/>
          <a:ext cx="260172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080"/>
                <a:gridCol w="435240"/>
                <a:gridCol w="433440"/>
                <a:gridCol w="43308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63" name="Textfeld 8"/>
          <p:cNvSpPr/>
          <p:nvPr/>
        </p:nvSpPr>
        <p:spPr>
          <a:xfrm>
            <a:off x="1279080" y="119700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source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feld 9"/>
          <p:cNvSpPr/>
          <p:nvPr/>
        </p:nvSpPr>
        <p:spPr>
          <a:xfrm>
            <a:off x="4951080" y="1197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target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feld 10"/>
          <p:cNvSpPr/>
          <p:nvPr/>
        </p:nvSpPr>
        <p:spPr>
          <a:xfrm>
            <a:off x="868320" y="3500280"/>
            <a:ext cx="6849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r 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1,7,13,19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,11,17,23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6,12,18,24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,8,14,2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I) =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feld 11"/>
          <p:cNvSpPr/>
          <p:nvPr/>
        </p:nvSpPr>
        <p:spPr>
          <a:xfrm>
            <a:off x="852480" y="4581360"/>
            <a:ext cx="4032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source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[15,16,17,18,21,22,23,2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target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M(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[15,16,17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21,22,23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feld 12"/>
          <p:cNvSpPr/>
          <p:nvPr/>
        </p:nvSpPr>
        <p:spPr>
          <a:xfrm>
            <a:off x="5219640" y="450864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r can be applied to any index 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cluded 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hange of inner h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159F-3631-4344-B51F-2E6BEEE820A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A653-D4C4-4325-B2DE-A8FBAEB410C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ompleting the bounds-exchange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ihandform 9"/>
          <p:cNvSpPr/>
          <p:nvPr/>
        </p:nvSpPr>
        <p:spPr>
          <a:xfrm>
            <a:off x="198360" y="1554120"/>
            <a:ext cx="4722840" cy="1463760"/>
          </a:xfrm>
          <a:custGeom>
            <a:avLst/>
            <a:gdLst>
              <a:gd name="textAreaLeft" fmla="*/ 0 w 4722840"/>
              <a:gd name="textAreaRight" fmla="*/ 4723200 w 472284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ihandform 10"/>
          <p:cNvSpPr/>
          <p:nvPr/>
        </p:nvSpPr>
        <p:spPr>
          <a:xfrm>
            <a:off x="393840" y="1800360"/>
            <a:ext cx="4297320" cy="1279440"/>
          </a:xfrm>
          <a:custGeom>
            <a:avLst/>
            <a:gdLst>
              <a:gd name="textAreaLeft" fmla="*/ 0 w 4297320"/>
              <a:gd name="textAreaRight" fmla="*/ 4297680 w 429732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ihandform 11"/>
          <p:cNvSpPr/>
          <p:nvPr/>
        </p:nvSpPr>
        <p:spPr>
          <a:xfrm>
            <a:off x="19836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ihandform 12"/>
          <p:cNvSpPr/>
          <p:nvPr/>
        </p:nvSpPr>
        <p:spPr>
          <a:xfrm>
            <a:off x="470844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ihandform 13"/>
          <p:cNvSpPr/>
          <p:nvPr/>
        </p:nvSpPr>
        <p:spPr>
          <a:xfrm>
            <a:off x="411120" y="1736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ihandform 14"/>
          <p:cNvSpPr/>
          <p:nvPr/>
        </p:nvSpPr>
        <p:spPr>
          <a:xfrm>
            <a:off x="4464000" y="1736640"/>
            <a:ext cx="244440" cy="12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ihandform 15"/>
          <p:cNvSpPr/>
          <p:nvPr/>
        </p:nvSpPr>
        <p:spPr>
          <a:xfrm>
            <a:off x="41112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ihandform 16"/>
          <p:cNvSpPr/>
          <p:nvPr/>
        </p:nvSpPr>
        <p:spPr>
          <a:xfrm>
            <a:off x="1874880" y="1736640"/>
            <a:ext cx="2833560" cy="457200"/>
          </a:xfrm>
          <a:custGeom>
            <a:avLst/>
            <a:gdLst>
              <a:gd name="textAreaLeft" fmla="*/ 0 w 2833560"/>
              <a:gd name="textAreaRight" fmla="*/ 2833920 w 28335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ihandform 17"/>
          <p:cNvSpPr/>
          <p:nvPr/>
        </p:nvSpPr>
        <p:spPr>
          <a:xfrm>
            <a:off x="411120" y="21938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ihandform 18"/>
          <p:cNvSpPr/>
          <p:nvPr/>
        </p:nvSpPr>
        <p:spPr>
          <a:xfrm>
            <a:off x="3246480" y="2193840"/>
            <a:ext cx="1461960" cy="824040"/>
          </a:xfrm>
          <a:custGeom>
            <a:avLst/>
            <a:gdLst>
              <a:gd name="textAreaLeft" fmla="*/ 0 w 1461960"/>
              <a:gd name="textAreaRight" fmla="*/ 1462320 w 14619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ihandform 19"/>
          <p:cNvSpPr/>
          <p:nvPr/>
        </p:nvSpPr>
        <p:spPr>
          <a:xfrm>
            <a:off x="166680" y="3840120"/>
            <a:ext cx="1828800" cy="8240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ihandform 20"/>
          <p:cNvSpPr/>
          <p:nvPr/>
        </p:nvSpPr>
        <p:spPr>
          <a:xfrm>
            <a:off x="3459240" y="4754520"/>
            <a:ext cx="1828800" cy="10065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ihandform 21"/>
          <p:cNvSpPr/>
          <p:nvPr/>
        </p:nvSpPr>
        <p:spPr>
          <a:xfrm>
            <a:off x="166680" y="4754520"/>
            <a:ext cx="3200400" cy="10065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ihandform 22"/>
          <p:cNvSpPr/>
          <p:nvPr/>
        </p:nvSpPr>
        <p:spPr>
          <a:xfrm>
            <a:off x="2087640" y="3840120"/>
            <a:ext cx="3200400" cy="82404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ihandform 23"/>
          <p:cNvSpPr/>
          <p:nvPr/>
        </p:nvSpPr>
        <p:spPr>
          <a:xfrm>
            <a:off x="16668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ihandform 24"/>
          <p:cNvSpPr/>
          <p:nvPr/>
        </p:nvSpPr>
        <p:spPr>
          <a:xfrm>
            <a:off x="349200" y="4022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ihandform 25"/>
          <p:cNvSpPr/>
          <p:nvPr/>
        </p:nvSpPr>
        <p:spPr>
          <a:xfrm>
            <a:off x="349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ihandform 26"/>
          <p:cNvSpPr/>
          <p:nvPr/>
        </p:nvSpPr>
        <p:spPr>
          <a:xfrm>
            <a:off x="364176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ihandform 27"/>
          <p:cNvSpPr/>
          <p:nvPr/>
        </p:nvSpPr>
        <p:spPr>
          <a:xfrm>
            <a:off x="2270160" y="4022640"/>
            <a:ext cx="2835360" cy="45720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ihandform 28"/>
          <p:cNvSpPr/>
          <p:nvPr/>
        </p:nvSpPr>
        <p:spPr>
          <a:xfrm>
            <a:off x="16668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ihandform 29"/>
          <p:cNvSpPr/>
          <p:nvPr/>
        </p:nvSpPr>
        <p:spPr>
          <a:xfrm>
            <a:off x="349200" y="49370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ihandform 30"/>
          <p:cNvSpPr/>
          <p:nvPr/>
        </p:nvSpPr>
        <p:spPr>
          <a:xfrm>
            <a:off x="34592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ihandform 31"/>
          <p:cNvSpPr/>
          <p:nvPr/>
        </p:nvSpPr>
        <p:spPr>
          <a:xfrm>
            <a:off x="3641760" y="4937040"/>
            <a:ext cx="1463760" cy="82404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ihandform 32"/>
          <p:cNvSpPr/>
          <p:nvPr/>
        </p:nvSpPr>
        <p:spPr>
          <a:xfrm>
            <a:off x="16304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ihandform 33"/>
          <p:cNvSpPr/>
          <p:nvPr/>
        </p:nvSpPr>
        <p:spPr>
          <a:xfrm>
            <a:off x="3641760" y="4297320"/>
            <a:ext cx="1433520" cy="18252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ihandform 34"/>
          <p:cNvSpPr/>
          <p:nvPr/>
        </p:nvSpPr>
        <p:spPr>
          <a:xfrm>
            <a:off x="22701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ihandform 35"/>
          <p:cNvSpPr/>
          <p:nvPr/>
        </p:nvSpPr>
        <p:spPr>
          <a:xfrm>
            <a:off x="4921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ihandform 36"/>
          <p:cNvSpPr/>
          <p:nvPr/>
        </p:nvSpPr>
        <p:spPr>
          <a:xfrm>
            <a:off x="349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3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ihandform 37"/>
          <p:cNvSpPr/>
          <p:nvPr/>
        </p:nvSpPr>
        <p:spPr>
          <a:xfrm>
            <a:off x="30020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ihandform 38"/>
          <p:cNvSpPr/>
          <p:nvPr/>
        </p:nvSpPr>
        <p:spPr>
          <a:xfrm>
            <a:off x="349200" y="4937040"/>
            <a:ext cx="1494000" cy="1843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ihandform 39"/>
          <p:cNvSpPr/>
          <p:nvPr/>
        </p:nvSpPr>
        <p:spPr>
          <a:xfrm>
            <a:off x="349200" y="42973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ihandform 40"/>
          <p:cNvSpPr/>
          <p:nvPr/>
        </p:nvSpPr>
        <p:spPr>
          <a:xfrm>
            <a:off x="3641760" y="49370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ihandform 41"/>
          <p:cNvSpPr/>
          <p:nvPr/>
        </p:nvSpPr>
        <p:spPr>
          <a:xfrm>
            <a:off x="36417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ihandform 42"/>
          <p:cNvSpPr/>
          <p:nvPr/>
        </p:nvSpPr>
        <p:spPr>
          <a:xfrm>
            <a:off x="4921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ihandform 43"/>
          <p:cNvSpPr/>
          <p:nvPr/>
        </p:nvSpPr>
        <p:spPr>
          <a:xfrm>
            <a:off x="18129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ihandform 44"/>
          <p:cNvSpPr/>
          <p:nvPr/>
        </p:nvSpPr>
        <p:spPr>
          <a:xfrm>
            <a:off x="31845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ihandform 45"/>
          <p:cNvSpPr/>
          <p:nvPr/>
        </p:nvSpPr>
        <p:spPr>
          <a:xfrm>
            <a:off x="510552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ihandform 46"/>
          <p:cNvSpPr/>
          <p:nvPr/>
        </p:nvSpPr>
        <p:spPr>
          <a:xfrm>
            <a:off x="349200" y="4754520"/>
            <a:ext cx="1494000" cy="1825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ihandform 47"/>
          <p:cNvSpPr/>
          <p:nvPr/>
        </p:nvSpPr>
        <p:spPr>
          <a:xfrm>
            <a:off x="3641760" y="47545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ihandform 48"/>
          <p:cNvSpPr/>
          <p:nvPr/>
        </p:nvSpPr>
        <p:spPr>
          <a:xfrm>
            <a:off x="34920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ihandform 49"/>
          <p:cNvSpPr/>
          <p:nvPr/>
        </p:nvSpPr>
        <p:spPr>
          <a:xfrm>
            <a:off x="16668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ihandform 50"/>
          <p:cNvSpPr/>
          <p:nvPr/>
        </p:nvSpPr>
        <p:spPr>
          <a:xfrm>
            <a:off x="181296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ihandform 51"/>
          <p:cNvSpPr/>
          <p:nvPr/>
        </p:nvSpPr>
        <p:spPr>
          <a:xfrm>
            <a:off x="16668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ihandform 52"/>
          <p:cNvSpPr/>
          <p:nvPr/>
        </p:nvSpPr>
        <p:spPr>
          <a:xfrm>
            <a:off x="1843200" y="4754520"/>
            <a:ext cx="1341360" cy="1825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ihandform 53"/>
          <p:cNvSpPr/>
          <p:nvPr/>
        </p:nvSpPr>
        <p:spPr>
          <a:xfrm>
            <a:off x="318456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ihandform 54"/>
          <p:cNvSpPr/>
          <p:nvPr/>
        </p:nvSpPr>
        <p:spPr>
          <a:xfrm>
            <a:off x="345924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ihandform 55"/>
          <p:cNvSpPr/>
          <p:nvPr/>
        </p:nvSpPr>
        <p:spPr>
          <a:xfrm>
            <a:off x="510552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ihandform 56"/>
          <p:cNvSpPr/>
          <p:nvPr/>
        </p:nvSpPr>
        <p:spPr>
          <a:xfrm>
            <a:off x="2270160" y="4479840"/>
            <a:ext cx="1371600" cy="1843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ihandform 57"/>
          <p:cNvSpPr/>
          <p:nvPr/>
        </p:nvSpPr>
        <p:spPr>
          <a:xfrm>
            <a:off x="208764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ihandform 58"/>
          <p:cNvSpPr/>
          <p:nvPr/>
        </p:nvSpPr>
        <p:spPr>
          <a:xfrm>
            <a:off x="20876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ihandform 59"/>
          <p:cNvSpPr/>
          <p:nvPr/>
        </p:nvSpPr>
        <p:spPr>
          <a:xfrm>
            <a:off x="510552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ihandform 60"/>
          <p:cNvSpPr/>
          <p:nvPr/>
        </p:nvSpPr>
        <p:spPr>
          <a:xfrm>
            <a:off x="510552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ihandform 61"/>
          <p:cNvSpPr/>
          <p:nvPr/>
        </p:nvSpPr>
        <p:spPr>
          <a:xfrm>
            <a:off x="1843200" y="4937040"/>
            <a:ext cx="1341360" cy="1843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ihandform 62"/>
          <p:cNvSpPr/>
          <p:nvPr/>
        </p:nvSpPr>
        <p:spPr>
          <a:xfrm>
            <a:off x="2270160" y="4297320"/>
            <a:ext cx="1371600" cy="182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feld 63"/>
          <p:cNvSpPr/>
          <p:nvPr/>
        </p:nvSpPr>
        <p:spPr>
          <a:xfrm>
            <a:off x="5472000" y="127332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lobal 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- described by mod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feld 64"/>
          <p:cNvSpPr/>
          <p:nvPr/>
        </p:nvSpPr>
        <p:spPr>
          <a:xfrm>
            <a:off x="5472000" y="367020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sub-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epend on stencil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border definition done by user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feld 65"/>
          <p:cNvSpPr/>
          <p:nvPr/>
        </p:nvSpPr>
        <p:spPr>
          <a:xfrm>
            <a:off x="214200" y="2995560"/>
            <a:ext cx="43722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  <a:ea typeface="Tahoma"/>
              </a:rPr>
              <a:t>Source</a:t>
            </a:r>
            <a:r>
              <a:rPr b="0" lang="de-DE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i       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   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         Target</a:t>
            </a:r>
            <a:r>
              <a:rPr b="0" lang="de-DE" sz="1800" spc="-1" strike="noStrike" baseline="-25000">
                <a:solidFill>
                  <a:srgbClr val="c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Nach unten gekrümmter Pfeil 66"/>
          <p:cNvSpPr/>
          <p:nvPr/>
        </p:nvSpPr>
        <p:spPr>
          <a:xfrm>
            <a:off x="441360" y="1449360"/>
            <a:ext cx="4572000" cy="63828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320 h 638280"/>
              <a:gd name="textAreaBottom" fmla="*/ 552960 h 638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5" hR="21600" stAng="10800000" swAng="5400000"/>
                <a:lnTo>
                  <a:pt x="10989" y="0"/>
                </a:lnTo>
                <a:arcTo wR="10235" hR="21600" stAng="-5400000" swAng="3684760"/>
                <a:lnTo>
                  <a:pt x="21275" y="16200"/>
                </a:lnTo>
                <a:lnTo>
                  <a:pt x="20846" y="21600"/>
                </a:lnTo>
                <a:lnTo>
                  <a:pt x="19767" y="16200"/>
                </a:lnTo>
                <a:lnTo>
                  <a:pt x="20144" y="16200"/>
                </a:lnTo>
                <a:arcTo wR="10235" hR="21600" stAng="-1715240" swAng="-3624724"/>
                <a:lnTo>
                  <a:pt x="10612" y="15"/>
                </a:lnTo>
                <a:arcTo wR="10235" hR="21600" stAng="-5460036" swAng="-5339964"/>
                <a:close/>
              </a:path>
              <a:path fill="darkenLess" w="21600" h="21600">
                <a:moveTo>
                  <a:pt x="0" y="21600"/>
                </a:moveTo>
                <a:arcTo wR="10235" hR="21600" stAng="10800000" swAng="5400000"/>
                <a:lnTo>
                  <a:pt x="10235" y="0"/>
                </a:lnTo>
                <a:arcTo wR="10235" hR="21600" stAng="-5400000" swAng="60036"/>
                <a:lnTo>
                  <a:pt x="10612" y="15"/>
                </a:lnTo>
                <a:arcTo wR="10235" hR="21600" stAng="-5460036" swAng="-533996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Nach unten gekrümmter Pfeil 67"/>
          <p:cNvSpPr/>
          <p:nvPr/>
        </p:nvSpPr>
        <p:spPr>
          <a:xfrm rot="10800000">
            <a:off x="136440" y="2374200"/>
            <a:ext cx="4572000" cy="63972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680 h 639720"/>
              <a:gd name="textAreaBottom" fmla="*/ 554040 h 639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4" hR="21600" stAng="10800000" swAng="5400000"/>
                <a:lnTo>
                  <a:pt x="10989" y="0"/>
                </a:lnTo>
                <a:arcTo wR="10234" hR="21600" stAng="-5400000" swAng="3684619"/>
                <a:lnTo>
                  <a:pt x="21275" y="16200"/>
                </a:lnTo>
                <a:lnTo>
                  <a:pt x="20845" y="21600"/>
                </a:lnTo>
                <a:lnTo>
                  <a:pt x="19764" y="16200"/>
                </a:lnTo>
                <a:lnTo>
                  <a:pt x="20142" y="16200"/>
                </a:lnTo>
                <a:arcTo wR="10234" hR="21600" stAng="-1715381" swAng="-3624503"/>
                <a:lnTo>
                  <a:pt x="10611" y="15"/>
                </a:lnTo>
                <a:arcTo wR="10234" hR="21600" stAng="-5460116" swAng="-5339884"/>
                <a:close/>
              </a:path>
              <a:path fill="darkenLess" w="21600" h="21600">
                <a:moveTo>
                  <a:pt x="0" y="21600"/>
                </a:moveTo>
                <a:arcTo wR="10234" hR="21600" stAng="10800000" swAng="5400000"/>
                <a:lnTo>
                  <a:pt x="10234" y="0"/>
                </a:lnTo>
                <a:arcTo wR="10234" hR="21600" stAng="-5400000" swAng="60116"/>
                <a:lnTo>
                  <a:pt x="10611" y="15"/>
                </a:lnTo>
                <a:arcTo wR="10234" hR="21600" stAng="-5460116" swAng="-533988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feil nach rechts 68"/>
          <p:cNvSpPr/>
          <p:nvPr/>
        </p:nvSpPr>
        <p:spPr>
          <a:xfrm>
            <a:off x="1874880" y="3166920"/>
            <a:ext cx="547560" cy="1796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Inhaltsplatzhalter 6" descr=""/>
          <p:cNvPicPr/>
          <p:nvPr/>
        </p:nvPicPr>
        <p:blipFill>
          <a:blip r:embed="rId1"/>
          <a:srcRect l="0" t="0" r="0" b="27138"/>
          <a:stretch/>
        </p:blipFill>
        <p:spPr>
          <a:xfrm>
            <a:off x="654120" y="2009880"/>
            <a:ext cx="7835760" cy="343512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3d-bounds-exchange measu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66C7-FE58-463C-8954-90E358DE853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205B-33F8-447F-8C2B-424EBABEE1E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feld 8"/>
          <p:cNvSpPr/>
          <p:nvPr/>
        </p:nvSpPr>
        <p:spPr>
          <a:xfrm>
            <a:off x="1403280" y="14144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written – requires symmetric regular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feld 9"/>
          <p:cNvSpPr/>
          <p:nvPr/>
        </p:nvSpPr>
        <p:spPr>
          <a:xfrm>
            <a:off x="5508720" y="14144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rans/YAXT gener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4C75-5020-4494-AA8B-CD1AA82E5E1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EF43-A96A-4F35-BB16-D9B86924954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2040" y="34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[TP04L40: 8x4] Load Bal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Grafik 17" descr=""/>
          <p:cNvPicPr/>
          <p:nvPr/>
        </p:nvPicPr>
        <p:blipFill>
          <a:blip r:embed="rId1"/>
          <a:stretch/>
        </p:blipFill>
        <p:spPr>
          <a:xfrm>
            <a:off x="63360" y="1089000"/>
            <a:ext cx="5029200" cy="2532240"/>
          </a:xfrm>
          <a:prstGeom prst="rect">
            <a:avLst/>
          </a:prstGeom>
          <a:ln w="0">
            <a:noFill/>
          </a:ln>
        </p:spPr>
      </p:pic>
      <p:pic>
        <p:nvPicPr>
          <p:cNvPr id="444" name="Grafik 18" descr=""/>
          <p:cNvPicPr/>
          <p:nvPr/>
        </p:nvPicPr>
        <p:blipFill>
          <a:blip r:embed="rId2"/>
          <a:stretch/>
        </p:blipFill>
        <p:spPr>
          <a:xfrm>
            <a:off x="55440" y="3875040"/>
            <a:ext cx="5029200" cy="2532240"/>
          </a:xfrm>
          <a:prstGeom prst="rect">
            <a:avLst/>
          </a:prstGeom>
          <a:ln w="0">
            <a:noFill/>
          </a:ln>
        </p:spPr>
      </p:pic>
      <p:sp>
        <p:nvSpPr>
          <p:cNvPr id="445" name="Textfeld 19"/>
          <p:cNvSpPr/>
          <p:nvPr/>
        </p:nvSpPr>
        <p:spPr>
          <a:xfrm>
            <a:off x="5472000" y="1268280"/>
            <a:ext cx="3421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et-point-only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load 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Unfit legacy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hing g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feld 20"/>
          <p:cNvSpPr/>
          <p:nvPr/>
        </p:nvSpPr>
        <p:spPr>
          <a:xfrm>
            <a:off x="5472000" y="3875040"/>
            <a:ext cx="3600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dapted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Old boundary exchange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eprogramming ex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AXT-formu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s for both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 asynchronous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-Place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Multi-Phase ex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Use YAXT in MPIOM, ECHAM, ICON and CDI-P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513A-3948-4933-878D-F706AE95C9C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6115-5BCD-4399-87FE-049880B0D11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262626"/>
                </a:solidFill>
                <a:latin typeface="Tahoma"/>
                <a:ea typeface="Tahoma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cumentation:</a:t>
            </a:r>
            <a:br>
              <a:rPr sz="24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1"/>
              </a:rPr>
              <a:t>https://redmine.dkrz.de/doc/yaxt/html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m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2"/>
              </a:rPr>
              <a:t>https://www.dkrz.de/redmine/projects/ya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wnlo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3"/>
              </a:rPr>
              <a:t>https://www.dkrz.de/redmine/projects/yaxt/wiki/Downlo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928600" y="423360"/>
            <a:ext cx="542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404040"/>
              </a:solidFill>
              <a:latin typeface="Tahoma"/>
              <a:ea typeface="Tahoma"/>
            </a:endParaRPr>
          </a:p>
        </p:txBody>
      </p:sp>
      <p:sp>
        <p:nvSpPr>
          <p:cNvPr id="4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98E5-776C-4CF4-8980-A9E5CC7BE59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19A3-6A40-418F-A7AF-883BC8A7E42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iti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process defines what data it has and what it wants (source and target decompositio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a mapping between source and target decomposi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data type specific redistribution object for a given mapp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ime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Do the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in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Clean 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How it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26E5-0A48-4AEB-8E2B-6622FAB3986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7301-EDE5-41E4-BBBC-256D13739B6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ll data elements have the same memory layout and are stored in an array (C makes no difference between 1D and nD-array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data object has a unique global id (integ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 decomposition is a list of global data element 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positions of the global ids within the set correspond to the positions of the respective data elements within the data array (if nothing else is said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2299-960E-4C93-9806-F3E3111A7C2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564B-BD29-4362-94E6-957ABE7A299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mapping you need to provide the two decompositions and a MPI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operation is collective for all processes within the given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33DD-36FD-4505-8A79-7AEF0099DD2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A9AC-3F60-44A7-AAED-938E4E15089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data specific redistribution object the user needs to provide a mapping object and the MPI data type for the data el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t is possible to combine multiple existing redistribution objects (useful for aggregation of data exchang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E3BB-4147-41E0-9D9D-6B25D87701C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8D57-BE21-4F40-98A2-468015DE993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do the exchange the user needs to call the exchange routine and provide a redistribution object and the source and target array(s) (passed via C_LOC from Fortra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l objects generated by YAXT can be destroyed by calling the respective destruc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5536-0DF3-49B1-83D2-DC6C22E7641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C14A-86BF-464E-91AC-E8765CAD82D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26"/>
                </a:solidFill>
                <a:latin typeface="Tahoma"/>
                <a:ea typeface="Tahoma"/>
              </a:rPr>
              <a:t>Gather on rank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610240" cy="1457280"/>
          </a:xfrm>
          <a:prstGeom prst="rect">
            <a:avLst/>
          </a:prstGeom>
          <a:ln w="0">
            <a:noFill/>
          </a:ln>
        </p:spPr>
      </p:pic>
      <p:sp>
        <p:nvSpPr>
          <p:cNvPr id="17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0FAE-7BEF-4C25-8D6E-D0327266F5B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1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0B75-57AA-4D92-B4F6-599B42BE40A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7:51:59Z</dcterms:created>
  <dc:creator/>
  <dc:description/>
  <dc:language>en-US</dc:language>
  <cp:lastModifiedBy/>
  <dcterms:modified xsi:type="dcterms:W3CDTF">2013-06-07T09:37:03Z</dcterms:modified>
  <cp:revision>50</cp:revision>
  <dc:subject/>
  <dc:title>Introduction to YAXT</dc:title>
</cp:coreProperties>
</file>