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9C7B-6767-46B3-9BC7-04905AEAF0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168D-7251-47B7-810E-6BA90CD6A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urce only uses single index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608E-8920-4DBA-ABE0-C4AED0775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C0ED-E8E9-4A42-A587-C93B2A34F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3721-708D-4D6A-96DA-832FC5AAE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AFF3-6D7D-4E87-AE66-1CC313B9C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olour symbolizes a process holding some part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 on boundary ex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847A-8A1F-41A0-836D-07650073B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7BC3-6D04-468F-B3F2-9C4321BA0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4BFD-12B2-44D1-AA76-0F96901D8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iers are defined using Index-l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hould be described in a compac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4B32-C6D6-412A-9D35-BA6965AE1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6460-A592-4F7B-9439-FA5663428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xed offsets occur with dynamic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D91D-D4EB-427A-A862-775A6CC8A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5413-A809-47AC-AAC6-6248E0B3C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BEB7-4C5D-41B0-93F9-F91ED8AE6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7041-434F-4CD3-AB9F-C154DCC9C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stalled on blizz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96DD-6066-433C-8182-E22468864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D71A-65A9-44C0-B1A5-CE56F84F4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9A17-59F0-46ED-9629-B65398B03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F017-2E16-49FC-BBA9-1322E480A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1CA3-D51C-413F-A9C0-F0326BB6C2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4C3F-6F06-41C6-B55D-639774E4F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D159-F7C5-4EEA-9120-18EC5922B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D521-97AB-4D6B-B592-8E78AA922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y-Layout can be faked, we really only need properly aligned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imple example on white-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A580-E0DC-40BF-80A4-FA5D2103D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A091-51EC-42A0-8391-BAF0350BA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A6D0-7875-41DC-B04C-CDCAC6294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EF75-EA51-4779-AB76-C07D39767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6222-FCD0-484D-92D2-9AF9AA0CF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8599-FC6E-4DBA-AF48-847CF327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2682-CF60-489C-B039-C01A9024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7213-BA89-4AEB-B28E-A84B426C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0A08-AF8C-400C-AB47-81F6E8F6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67BDB-2159-4BC6-8BC1-6768A077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FDF6-2B43-4B88-8BD6-A85194A0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5EA4-1092-4680-8B86-2AE11E02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A5BB-21F9-4A55-A9F6-202EB32A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FD5C-1893-4F30-83B0-02AA24ED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5060-0B82-4E4E-9D45-AF513241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0C6C-6D79-48B2-B2C1-8AB589EE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D3F4-4508-4FCA-8E0D-E0E88F62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5084640" y="785880"/>
            <a:ext cx="327348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88920" y="6075360"/>
            <a:ext cx="1482840" cy="525600"/>
          </a:xfrm>
          <a:prstGeom prst="rect">
            <a:avLst/>
          </a:prstGeom>
          <a:ln w="0">
            <a:noFill/>
          </a:ln>
        </p:spPr>
      </p:pic>
      <p:sp>
        <p:nvSpPr>
          <p:cNvPr id="84" name="Rechteck 6"/>
          <p:cNvSpPr/>
          <p:nvPr/>
        </p:nvSpPr>
        <p:spPr>
          <a:xfrm>
            <a:off x="1726920" y="6121440"/>
            <a:ext cx="72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© DKR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7"/>
          <p:cNvSpPr/>
          <p:nvPr/>
        </p:nvSpPr>
        <p:spPr>
          <a:xfrm>
            <a:off x="3211560" y="6119640"/>
            <a:ext cx="1440" cy="48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8767800" y="6572160"/>
            <a:ext cx="420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9"/>
          <p:cNvSpPr/>
          <p:nvPr/>
        </p:nvSpPr>
        <p:spPr>
          <a:xfrm>
            <a:off x="8750160" y="6573960"/>
            <a:ext cx="39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/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813096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83F6-AC79-44E2-A669-6F423803AE8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D17B-3828-43F8-9573-9F9565E1EAB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244680" y="6117840"/>
            <a:ext cx="2143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mr.ca.sandia.gov/~apinar/papers/siampp0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redmine.dkrz.de/doc/yaxt/html/index.html" TargetMode="External"/><Relationship Id="rId2" Type="http://schemas.openxmlformats.org/officeDocument/2006/relationships/hyperlink" Target="https://www.dkrz.de/redmine/projects/yaxt" TargetMode="External"/><Relationship Id="rId3" Type="http://schemas.openxmlformats.org/officeDocument/2006/relationships/hyperlink" Target="https://www.dkrz.de/redmine/projects/yaxt/wiki/Download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8640" y="3785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Tahoma"/>
                <a:ea typeface="Tahoma"/>
              </a:rPr>
              <a:t>(Yet Another eXchange Tool, DKRZ 2012-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28640" y="257184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ahoma"/>
                <a:ea typeface="Tahoma"/>
              </a:rPr>
              <a:t>Introduction to YA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nt src_index = ran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src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(&amp;src_index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f (rank == 0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struct Xt_stripe tgt_stripe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{.start = 0, .nstrides = 4, .stride = 1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stripes_new(&amp;tgt_stripe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xt_idxempty_new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3BE1-2215-4B34-97BF-1A129EC3C3A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CEB2-72E9-4665-97B8-DCEDCBF96B2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xmap xmap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, tgt_idxli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06B3-7B53-4551-8443-4A31A1A596F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09C1-E269-49DE-881E-35BE8B96B8E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 redist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new(xmap, MPI_I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EB86-EB8E-407D-B415-8E2F997BA1E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A0CB-7078-46AC-9A6F-F853E29490F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src_data[1] = {…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tgt_data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redist, src_data, tgt_dat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delete(red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delete(xmap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tgt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src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4B68-C5E4-4091-9677-E48F85DF6CE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5510-7371-42BE-86A8-534AE3BF847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285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Transpose from row-wise to column-wis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ACFF-250A-4765-A646-8A0C457E921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040F-9AD8-4C35-B671-9865F723DD9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haltsplatzhalter 1"/>
          <p:cNvSpPr/>
          <p:nvPr/>
        </p:nvSpPr>
        <p:spPr>
          <a:xfrm>
            <a:off x="468360" y="515772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xample program: </a:t>
            </a:r>
            <a:r>
              <a:rPr b="0" lang="en-US" sz="2400" spc="-1" strike="noStrike">
                <a:solidFill>
                  <a:srgbClr val="262626"/>
                </a:solidFill>
                <a:latin typeface="Courier New"/>
                <a:ea typeface="Tahoma"/>
              </a:rPr>
              <a:t>examples/row2col_f.f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row2col.png"/>
          <p:cNvPicPr/>
          <p:nvPr/>
        </p:nvPicPr>
        <p:blipFill>
          <a:blip r:embed="rId1"/>
          <a:stretch/>
        </p:blipFill>
        <p:spPr>
          <a:xfrm>
            <a:off x="446040" y="2349360"/>
            <a:ext cx="8251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INT(global_range(:, 2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row_part_range(2, :) –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row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7B4E-81AE-4C77-8EBA-0E3E9E45A04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578E-7D2B-40D5-953F-F0877B5BA56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INT(global_range(:,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–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col_part_range(2, :)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- col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column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4475-9D15-4C58-819F-603D6A2D5C4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F453-B0AF-49A9-8B0B-846B78A146E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global_range(1:2, 1:2) = RESHAPE((/ 1, 10, 1, 5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/ 2, 2 /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(/ 1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(/ 4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(/ 1, 10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(/ 10, 2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for 10x5 global shape and 2</a:t>
            </a:r>
            <a:r>
              <a:rPr b="0" lang="en-US" sz="3200" spc="-1" strike="noStrike" baseline="30000">
                <a:solidFill>
                  <a:srgbClr val="404040"/>
                </a:solidFill>
                <a:latin typeface="Tahoma"/>
                <a:ea typeface="Tahoma"/>
              </a:rPr>
              <a:t>nd</a:t>
            </a: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 (= MPI rank 1) of 3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BA53-D324-4231-A02A-99C78C1E694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BBA8-6C7E-422D-90EF-CA7443B9069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tgt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decomposition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3442-B5E3-44EF-BC3B-A264DEAAD94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F613-44E6-4E6F-B2D2-0138B1D9DA4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exchang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xmap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xmap_all2all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, tgt_idxlist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redistribution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ed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p2p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xmap, mpi_double_prec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mapping and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B878-2867-4284-97C5-7A1A8DB597C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BE0A-698E-4D98-858B-39B42FE7852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f data between two sets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What it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2E25-C4BA-484F-B593-C5C7B0E0178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98D1-8508-4D80-B894-918E5BA311D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prepare arr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ALLOCATE(src_array(row_part_range(1, 1):row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row_part_range(1, 2):row_part_range(2, 2)),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tgt_array(col_part_range(1, 1):col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col_part_range(1, 2):col_part_range(2, 2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j = row_part_range(1, 2), row_part_range(2,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i = row_part_range(1, 1), row_part_range(2,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src_array(i, j) = DBLE(i * 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do the exch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s_exchange1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(redist, C_LOC(src_array), C_LOC(tgt_array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ll source array and redis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A3BB-FEED-4DEF-BCC0-31FB6A9A9EF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3902-6623-4DDB-9221-15F423151DD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clean 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DEALLOCATE(tgt_array, src_arra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red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xmap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xma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tgt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final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finaliz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mpi_finalize(ie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IF (ierror /= mpi_success) STOP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nish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9622-DBE1-4A7F-9F44-DCB7287BBB7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6D49-77D6-4D46-8ED0-6F980FA1F70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s (Xt_idxlist) describe subsets of indices within the global index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global index space can be any list of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re are multiple methods for constructing index l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6105-CC3D-448B-9DA3-587D1174444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17A1-C3E4-46DD-BDE0-B8D2270CD49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rbitrary list of indi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ahoma"/>
                <a:ea typeface="Tahoma"/>
              </a:rPr>
              <a:t>[0,3,32,26,44,14,4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ist of stripes: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[start = 0, nstrides = 3, stride = 2], [start = 1, nstrides = 2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stride = 2]] == [0,2,4,1,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N-dimensional block of indices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start = 0, num_dimension = 2, global_size = [5,5]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ocal_size = [3,3], local_start = [1,1]] == [6,7,8,11,12,13,16,17,1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6AA1-3D6D-4B7E-BB5F-BD00D47FE43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CF08-9BA0-4915-9826-54DB0D64BB3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Combination of a number of index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The modifier allows to define a mapping between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s create a new index list from an existing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: I =[0,1,2,3,4,5]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: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 = [0,2,4,6,8,10]-&gt;[10,8,6,4,2,0]</a:t>
            </a:r>
            <a:br>
              <a:rPr sz="2000"/>
            </a:b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(I)=[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10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1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8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3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6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7759-CE4E-43BF-AE3D-C148E8F0ED0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00D7-0690-4E16-9D47-02CA3AA3EFC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285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Exchange maps (Xt_xmap) determine communication partners and what data needs to be exchanged, based on th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very process sends its src and tgt list to all othe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Rendezvous algorithm[1] based on a distributed directory of global indices is used to avoid all to all communic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DCC8-2D4C-4048-8918-A28A5AB4904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EDA2-F624-44BF-A81E-2A007F88F2C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feld 6"/>
          <p:cNvSpPr/>
          <p:nvPr/>
        </p:nvSpPr>
        <p:spPr>
          <a:xfrm>
            <a:off x="468360" y="465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Pinar and B. Hendrickson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mmunication Support for Adaptive Computation}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n Proc. SIAM Conf. on Parallel Processing for Scientific Computing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bjects (Xt_redist) can be built for every non-null MPI data type (basic types, structs, vector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ternally YAXT will build MPI data type for every required exchange </a:t>
            </a:r>
            <a:r>
              <a:rPr b="0" lang="en-GB" sz="24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 no buffers are required for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or a combined redistribution object YAXT will also build MPI data types even if the associated input arrays have no fixed offset between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C0AA-791D-43D6-AFF7-0762C57329D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B71B-639F-4094-8E35-076B350683D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YAXT currently supports blocking redistribution of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C777-C33E-4FC1-94F9-8D756A33AA7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B574-0431-4CC7-99A6-25E2588F259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gp_3d_idxvec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gp_3d_vo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ndex, 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ew_gp_3d_idxvec = </a:t>
            </a:r>
            <a:r>
              <a:rPr b="1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gp_3d_idxve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40A2-251B-411A-8C9A-BF1847CDC6B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B0CA-2C54-4201-A9D0-502E6B5ACBA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6004080" y="1474920"/>
            <a:ext cx="7189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hteck 9"/>
          <p:cNvSpPr/>
          <p:nvPr/>
        </p:nvSpPr>
        <p:spPr>
          <a:xfrm>
            <a:off x="6006960" y="18334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hteck 10"/>
          <p:cNvSpPr/>
          <p:nvPr/>
        </p:nvSpPr>
        <p:spPr>
          <a:xfrm>
            <a:off x="6723000" y="1474920"/>
            <a:ext cx="720720" cy="358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hteck 11"/>
          <p:cNvSpPr/>
          <p:nvPr/>
        </p:nvSpPr>
        <p:spPr>
          <a:xfrm>
            <a:off x="6726240" y="21985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hteck 12"/>
          <p:cNvSpPr/>
          <p:nvPr/>
        </p:nvSpPr>
        <p:spPr>
          <a:xfrm>
            <a:off x="6726240" y="18273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hteck 13"/>
          <p:cNvSpPr/>
          <p:nvPr/>
        </p:nvSpPr>
        <p:spPr>
          <a:xfrm>
            <a:off x="6004080" y="219852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ck 14"/>
          <p:cNvSpPr/>
          <p:nvPr/>
        </p:nvSpPr>
        <p:spPr>
          <a:xfrm>
            <a:off x="600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ck 15"/>
          <p:cNvSpPr/>
          <p:nvPr/>
        </p:nvSpPr>
        <p:spPr>
          <a:xfrm>
            <a:off x="6732720" y="2565360"/>
            <a:ext cx="718920" cy="358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16"/>
          <p:cNvSpPr/>
          <p:nvPr/>
        </p:nvSpPr>
        <p:spPr>
          <a:xfrm>
            <a:off x="7443720" y="1474920"/>
            <a:ext cx="7207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hteck 17"/>
          <p:cNvSpPr/>
          <p:nvPr/>
        </p:nvSpPr>
        <p:spPr>
          <a:xfrm>
            <a:off x="8164440" y="1474920"/>
            <a:ext cx="71928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hteck 18"/>
          <p:cNvSpPr/>
          <p:nvPr/>
        </p:nvSpPr>
        <p:spPr>
          <a:xfrm>
            <a:off x="7443720" y="18241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hteck 19"/>
          <p:cNvSpPr/>
          <p:nvPr/>
        </p:nvSpPr>
        <p:spPr>
          <a:xfrm>
            <a:off x="8164440" y="181440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hteck 20"/>
          <p:cNvSpPr/>
          <p:nvPr/>
        </p:nvSpPr>
        <p:spPr>
          <a:xfrm>
            <a:off x="7451640" y="220500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21"/>
          <p:cNvSpPr/>
          <p:nvPr/>
        </p:nvSpPr>
        <p:spPr>
          <a:xfrm>
            <a:off x="744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22"/>
          <p:cNvSpPr/>
          <p:nvPr/>
        </p:nvSpPr>
        <p:spPr>
          <a:xfrm>
            <a:off x="8166240" y="22035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23"/>
          <p:cNvSpPr/>
          <p:nvPr/>
        </p:nvSpPr>
        <p:spPr>
          <a:xfrm>
            <a:off x="8166240" y="256536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ffsl_3d_idxvec(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ffsl_3d_vo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p, index, 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k = ffsl_kstack(kk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ew_ffsl_3d_idxvec = </a:t>
            </a:r>
            <a:r>
              <a:rPr b="1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ffsl_3d_idxvec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9A21-CAEC-4FAA-A678-8241CE8A831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6ED0-2119-4B60-A56C-2FCD1A3CB0D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hteck 24"/>
          <p:cNvSpPr/>
          <p:nvPr/>
        </p:nvSpPr>
        <p:spPr>
          <a:xfrm>
            <a:off x="5867280" y="196848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hteck 25"/>
          <p:cNvSpPr/>
          <p:nvPr/>
        </p:nvSpPr>
        <p:spPr>
          <a:xfrm>
            <a:off x="5865840" y="232884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26"/>
          <p:cNvSpPr/>
          <p:nvPr/>
        </p:nvSpPr>
        <p:spPr>
          <a:xfrm>
            <a:off x="586728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Library on top of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nspired by Fortran Prototype </a:t>
            </a:r>
            <a:r>
              <a:rPr b="0" i="1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nitrans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by Mathias Pütz in ScalES-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mplemented in C </a:t>
            </a:r>
            <a:r>
              <a:rPr b="0" lang="de-DE" sz="2800" spc="-1" strike="noStrike">
                <a:solidFill>
                  <a:srgbClr val="262626"/>
                </a:solidFill>
                <a:latin typeface="Cambria Math"/>
                <a:ea typeface="Cambria Math"/>
              </a:rPr>
              <a:t>⇒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type in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Fully-featured Fortran interface (requires C-inte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ed by DK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Git and SVN-readonly mirror repositori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ses pkg-config (</a:t>
            </a:r>
            <a:r>
              <a:rPr b="0" lang="de-DE" sz="2400" spc="-1" strike="noStrike">
                <a:solidFill>
                  <a:srgbClr val="262626"/>
                </a:solidFill>
                <a:latin typeface="Courier New"/>
                <a:ea typeface="Tahoma"/>
              </a:rPr>
              <a:t>pkg-config --cflags yaxt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Tahoma"/>
                <a:ea typeface="Tahoma"/>
              </a:rPr>
              <a:t>Some r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A87A-371C-41D1-9D75-D2798F7408A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50E5-8D12-4823-A73A-C53B7B4EECE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gp_3d_off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proma, nlev, ngpblk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b, ia, index, 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b = 1, ngpblk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a = 1, npro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a,k,ib) = 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ia +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F (ia &gt; nproma) TH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ib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a,k,ib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gp_3d_o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F310-5DE3-4FD1-9B16-253FC930201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1F93-B2D1-4B61-B6E8-5551B61D600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7"/>
          <p:cNvSpPr/>
          <p:nvPr/>
        </p:nvSpPr>
        <p:spPr>
          <a:xfrm>
            <a:off x="601200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9"/>
          <p:cNvSpPr/>
          <p:nvPr/>
        </p:nvSpPr>
        <p:spPr>
          <a:xfrm>
            <a:off x="601200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hteck 10"/>
          <p:cNvSpPr/>
          <p:nvPr/>
        </p:nvSpPr>
        <p:spPr>
          <a:xfrm>
            <a:off x="6732720" y="1268280"/>
            <a:ext cx="7189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hteck 11"/>
          <p:cNvSpPr/>
          <p:nvPr/>
        </p:nvSpPr>
        <p:spPr>
          <a:xfrm>
            <a:off x="6732720" y="198288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2"/>
          <p:cNvSpPr/>
          <p:nvPr/>
        </p:nvSpPr>
        <p:spPr>
          <a:xfrm>
            <a:off x="6732720" y="1619280"/>
            <a:ext cx="7189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3"/>
          <p:cNvSpPr/>
          <p:nvPr/>
        </p:nvSpPr>
        <p:spPr>
          <a:xfrm>
            <a:off x="6012000" y="19828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hteck 14"/>
          <p:cNvSpPr/>
          <p:nvPr/>
        </p:nvSpPr>
        <p:spPr>
          <a:xfrm>
            <a:off x="601200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hteck 15"/>
          <p:cNvSpPr/>
          <p:nvPr/>
        </p:nvSpPr>
        <p:spPr>
          <a:xfrm>
            <a:off x="6732720" y="2347920"/>
            <a:ext cx="7207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hteck 16"/>
          <p:cNvSpPr/>
          <p:nvPr/>
        </p:nvSpPr>
        <p:spPr>
          <a:xfrm>
            <a:off x="745164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17"/>
          <p:cNvSpPr/>
          <p:nvPr/>
        </p:nvSpPr>
        <p:spPr>
          <a:xfrm>
            <a:off x="817236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hteck 18"/>
          <p:cNvSpPr/>
          <p:nvPr/>
        </p:nvSpPr>
        <p:spPr>
          <a:xfrm>
            <a:off x="7451640" y="161928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hteck 19"/>
          <p:cNvSpPr/>
          <p:nvPr/>
        </p:nvSpPr>
        <p:spPr>
          <a:xfrm>
            <a:off x="817236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hteck 20"/>
          <p:cNvSpPr/>
          <p:nvPr/>
        </p:nvSpPr>
        <p:spPr>
          <a:xfrm>
            <a:off x="745164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hteck 21"/>
          <p:cNvSpPr/>
          <p:nvPr/>
        </p:nvSpPr>
        <p:spPr>
          <a:xfrm>
            <a:off x="745164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22"/>
          <p:cNvSpPr/>
          <p:nvPr/>
        </p:nvSpPr>
        <p:spPr>
          <a:xfrm>
            <a:off x="817236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23"/>
          <p:cNvSpPr/>
          <p:nvPr/>
        </p:nvSpPr>
        <p:spPr>
          <a:xfrm>
            <a:off x="8172360" y="234792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24"/>
          <p:cNvSpPr/>
          <p:nvPr/>
        </p:nvSpPr>
        <p:spPr>
          <a:xfrm>
            <a:off x="3552840" y="2311560"/>
            <a:ext cx="1944720" cy="18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hteck 26"/>
          <p:cNvSpPr/>
          <p:nvPr/>
        </p:nvSpPr>
        <p:spPr>
          <a:xfrm>
            <a:off x="3552840" y="2519280"/>
            <a:ext cx="1944720" cy="187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6"/>
          <p:cNvSpPr/>
          <p:nvPr/>
        </p:nvSpPr>
        <p:spPr>
          <a:xfrm>
            <a:off x="6536520" y="28558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27"/>
          <p:cNvSpPr/>
          <p:nvPr/>
        </p:nvSpPr>
        <p:spPr>
          <a:xfrm>
            <a:off x="3792960" y="286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Gerade Verbindung mit Pfeil 28"/>
          <p:cNvCxnSpPr/>
          <p:nvPr/>
        </p:nvCxnSpPr>
        <p:spPr>
          <a:xfrm flipH="1">
            <a:off x="3552120" y="1268280"/>
            <a:ext cx="3188520" cy="10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Gerade Verbindung mit Pfeil 31"/>
          <p:cNvCxnSpPr/>
          <p:nvPr/>
        </p:nvCxnSpPr>
        <p:spPr>
          <a:xfrm flipH="1">
            <a:off x="4858920" y="2358720"/>
            <a:ext cx="1882080" cy="130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3" name="Rechteck 38"/>
          <p:cNvSpPr/>
          <p:nvPr/>
        </p:nvSpPr>
        <p:spPr>
          <a:xfrm>
            <a:off x="5054760" y="2617920"/>
            <a:ext cx="43308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41"/>
          <p:cNvSpPr/>
          <p:nvPr/>
        </p:nvSpPr>
        <p:spPr>
          <a:xfrm>
            <a:off x="349236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o offset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h local index corresponds to p-th local off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,k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a,k,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ffsl_3d_off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lon, ffsl_nlat, ffsl_nle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ic, jc, kc, p, index,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c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c = ffsl_nlat, 1, -1 ! change in j-ori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c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c, jc, kc) = 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kc = k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jc = j-ffsl_gp_lat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c =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c, jc, k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ffsl_3d_o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1A1D-C87C-4EB8-8D1F-16A250797C4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2AA6-8472-453B-9161-3A7ACC3CC52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hteck 24"/>
          <p:cNvSpPr/>
          <p:nvPr/>
        </p:nvSpPr>
        <p:spPr>
          <a:xfrm>
            <a:off x="5865840" y="197172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25"/>
          <p:cNvSpPr/>
          <p:nvPr/>
        </p:nvSpPr>
        <p:spPr>
          <a:xfrm>
            <a:off x="5865840" y="233352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26"/>
          <p:cNvSpPr/>
          <p:nvPr/>
        </p:nvSpPr>
        <p:spPr>
          <a:xfrm>
            <a:off x="586584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fin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USE ya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::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, ffsl_3d_idxl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xmap) :: 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ALLOCATABLE ::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(:), ffsl_3d_off(: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redist), SAVE :: 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compos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gp_3d_idxvec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ffsl_3d_idxstripes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Init xmap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 model_com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Offset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gp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ffsl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Red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off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p_real_d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Usage in the mode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gp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ffsl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4A66-31BF-4E96-B4AD-816AC7FB426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64A8-4F8A-41A4-A170-591D90F7909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ifferent exchange kinds, each of th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behaves differently at global domain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p_exch_kind      =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plus_exch_kind  =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_exch_kind      =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u_exch_kind     = 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plus_exch_kind  = 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_exch_kind      = 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v_exch_kind     = 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f_exch_kind     = 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_exch_kind      = 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minus_exch_kind =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Usage of yaxt-modifiers to simplify definitions o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ecompos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MPIOM bounds-exchange with mod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6C5A-7B6B-4E71-88B7-6817710F99D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E595-921C-45FB-A9DC-D9B303F0F2B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547640" y="1557360"/>
          <a:ext cx="260208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4880"/>
                <a:gridCol w="433440"/>
                <a:gridCol w="43344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Simplified incomplete bounds-exchange exa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A608-F3E2-4A91-816C-1A34D7BF778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80F5-0401-4EE7-8413-0EE41F2645F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148360" y="1557360"/>
          <a:ext cx="260172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080"/>
                <a:gridCol w="435240"/>
                <a:gridCol w="433440"/>
                <a:gridCol w="43308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63" name="Textfeld 8"/>
          <p:cNvSpPr/>
          <p:nvPr/>
        </p:nvSpPr>
        <p:spPr>
          <a:xfrm>
            <a:off x="1279080" y="11970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rce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9"/>
          <p:cNvSpPr/>
          <p:nvPr/>
        </p:nvSpPr>
        <p:spPr>
          <a:xfrm>
            <a:off x="4951080" y="1197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rget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feld 10"/>
          <p:cNvSpPr/>
          <p:nvPr/>
        </p:nvSpPr>
        <p:spPr>
          <a:xfrm>
            <a:off x="868320" y="3500280"/>
            <a:ext cx="6849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1,7,13,19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1,17,2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6,12,18,24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,8,1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I)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feld 11"/>
          <p:cNvSpPr/>
          <p:nvPr/>
        </p:nvSpPr>
        <p:spPr>
          <a:xfrm>
            <a:off x="852480" y="4581360"/>
            <a:ext cx="403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ource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[15,16,17,18,21,22,23,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arget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[15,16,17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1,22,23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12"/>
          <p:cNvSpPr/>
          <p:nvPr/>
        </p:nvSpPr>
        <p:spPr>
          <a:xfrm>
            <a:off x="521964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can be applied to any index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of inner h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6D88-74DD-4DA1-81EA-71AFDA3B20B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27A4-A6DC-4E3E-B326-0197D688E3B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ompleting the bounds-exchang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ihandform 9"/>
          <p:cNvSpPr/>
          <p:nvPr/>
        </p:nvSpPr>
        <p:spPr>
          <a:xfrm>
            <a:off x="198360" y="1554120"/>
            <a:ext cx="4722840" cy="1463760"/>
          </a:xfrm>
          <a:custGeom>
            <a:avLst/>
            <a:gdLst>
              <a:gd name="textAreaLeft" fmla="*/ 0 w 4722840"/>
              <a:gd name="textAreaRight" fmla="*/ 4723200 w 47228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ihandform 10"/>
          <p:cNvSpPr/>
          <p:nvPr/>
        </p:nvSpPr>
        <p:spPr>
          <a:xfrm>
            <a:off x="393840" y="1800360"/>
            <a:ext cx="4297320" cy="127944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ihandform 11"/>
          <p:cNvSpPr/>
          <p:nvPr/>
        </p:nvSpPr>
        <p:spPr>
          <a:xfrm>
            <a:off x="19836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ihandform 12"/>
          <p:cNvSpPr/>
          <p:nvPr/>
        </p:nvSpPr>
        <p:spPr>
          <a:xfrm>
            <a:off x="470844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ihandform 13"/>
          <p:cNvSpPr/>
          <p:nvPr/>
        </p:nvSpPr>
        <p:spPr>
          <a:xfrm>
            <a:off x="411120" y="1736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ihandform 14"/>
          <p:cNvSpPr/>
          <p:nvPr/>
        </p:nvSpPr>
        <p:spPr>
          <a:xfrm>
            <a:off x="4464000" y="1736640"/>
            <a:ext cx="24444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ihandform 15"/>
          <p:cNvSpPr/>
          <p:nvPr/>
        </p:nvSpPr>
        <p:spPr>
          <a:xfrm>
            <a:off x="41112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ihandform 16"/>
          <p:cNvSpPr/>
          <p:nvPr/>
        </p:nvSpPr>
        <p:spPr>
          <a:xfrm>
            <a:off x="1874880" y="1736640"/>
            <a:ext cx="2833560" cy="457200"/>
          </a:xfrm>
          <a:custGeom>
            <a:avLst/>
            <a:gdLst>
              <a:gd name="textAreaLeft" fmla="*/ 0 w 2833560"/>
              <a:gd name="textAreaRight" fmla="*/ 2833920 w 283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ihandform 17"/>
          <p:cNvSpPr/>
          <p:nvPr/>
        </p:nvSpPr>
        <p:spPr>
          <a:xfrm>
            <a:off x="411120" y="21938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ihandform 18"/>
          <p:cNvSpPr/>
          <p:nvPr/>
        </p:nvSpPr>
        <p:spPr>
          <a:xfrm>
            <a:off x="3246480" y="2193840"/>
            <a:ext cx="1461960" cy="82404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ihandform 19"/>
          <p:cNvSpPr/>
          <p:nvPr/>
        </p:nvSpPr>
        <p:spPr>
          <a:xfrm>
            <a:off x="166680" y="3840120"/>
            <a:ext cx="1828800" cy="8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ihandform 20"/>
          <p:cNvSpPr/>
          <p:nvPr/>
        </p:nvSpPr>
        <p:spPr>
          <a:xfrm>
            <a:off x="3459240" y="4754520"/>
            <a:ext cx="1828800" cy="1006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ihandform 21"/>
          <p:cNvSpPr/>
          <p:nvPr/>
        </p:nvSpPr>
        <p:spPr>
          <a:xfrm>
            <a:off x="166680" y="4754520"/>
            <a:ext cx="3200400" cy="10065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ihandform 22"/>
          <p:cNvSpPr/>
          <p:nvPr/>
        </p:nvSpPr>
        <p:spPr>
          <a:xfrm>
            <a:off x="2087640" y="3840120"/>
            <a:ext cx="3200400" cy="8240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ihandform 23"/>
          <p:cNvSpPr/>
          <p:nvPr/>
        </p:nvSpPr>
        <p:spPr>
          <a:xfrm>
            <a:off x="16668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ihandform 24"/>
          <p:cNvSpPr/>
          <p:nvPr/>
        </p:nvSpPr>
        <p:spPr>
          <a:xfrm>
            <a:off x="349200" y="4022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ihandform 25"/>
          <p:cNvSpPr/>
          <p:nvPr/>
        </p:nvSpPr>
        <p:spPr>
          <a:xfrm>
            <a:off x="349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ihandform 26"/>
          <p:cNvSpPr/>
          <p:nvPr/>
        </p:nvSpPr>
        <p:spPr>
          <a:xfrm>
            <a:off x="364176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ihandform 27"/>
          <p:cNvSpPr/>
          <p:nvPr/>
        </p:nvSpPr>
        <p:spPr>
          <a:xfrm>
            <a:off x="2270160" y="4022640"/>
            <a:ext cx="2835360" cy="45720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ihandform 28"/>
          <p:cNvSpPr/>
          <p:nvPr/>
        </p:nvSpPr>
        <p:spPr>
          <a:xfrm>
            <a:off x="16668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ihandform 29"/>
          <p:cNvSpPr/>
          <p:nvPr/>
        </p:nvSpPr>
        <p:spPr>
          <a:xfrm>
            <a:off x="349200" y="49370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ihandform 30"/>
          <p:cNvSpPr/>
          <p:nvPr/>
        </p:nvSpPr>
        <p:spPr>
          <a:xfrm>
            <a:off x="34592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ihandform 31"/>
          <p:cNvSpPr/>
          <p:nvPr/>
        </p:nvSpPr>
        <p:spPr>
          <a:xfrm>
            <a:off x="3641760" y="4937040"/>
            <a:ext cx="1463760" cy="8240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ihandform 32"/>
          <p:cNvSpPr/>
          <p:nvPr/>
        </p:nvSpPr>
        <p:spPr>
          <a:xfrm>
            <a:off x="16304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ihandform 33"/>
          <p:cNvSpPr/>
          <p:nvPr/>
        </p:nvSpPr>
        <p:spPr>
          <a:xfrm>
            <a:off x="3641760" y="4297320"/>
            <a:ext cx="1433520" cy="1825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ihandform 34"/>
          <p:cNvSpPr/>
          <p:nvPr/>
        </p:nvSpPr>
        <p:spPr>
          <a:xfrm>
            <a:off x="22701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ihandform 35"/>
          <p:cNvSpPr/>
          <p:nvPr/>
        </p:nvSpPr>
        <p:spPr>
          <a:xfrm>
            <a:off x="4921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ihandform 36"/>
          <p:cNvSpPr/>
          <p:nvPr/>
        </p:nvSpPr>
        <p:spPr>
          <a:xfrm>
            <a:off x="349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3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ihandform 37"/>
          <p:cNvSpPr/>
          <p:nvPr/>
        </p:nvSpPr>
        <p:spPr>
          <a:xfrm>
            <a:off x="30020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ihandform 38"/>
          <p:cNvSpPr/>
          <p:nvPr/>
        </p:nvSpPr>
        <p:spPr>
          <a:xfrm>
            <a:off x="349200" y="4937040"/>
            <a:ext cx="1494000" cy="1843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ihandform 39"/>
          <p:cNvSpPr/>
          <p:nvPr/>
        </p:nvSpPr>
        <p:spPr>
          <a:xfrm>
            <a:off x="349200" y="42973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ihandform 40"/>
          <p:cNvSpPr/>
          <p:nvPr/>
        </p:nvSpPr>
        <p:spPr>
          <a:xfrm>
            <a:off x="3641760" y="49370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ihandform 41"/>
          <p:cNvSpPr/>
          <p:nvPr/>
        </p:nvSpPr>
        <p:spPr>
          <a:xfrm>
            <a:off x="36417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ihandform 42"/>
          <p:cNvSpPr/>
          <p:nvPr/>
        </p:nvSpPr>
        <p:spPr>
          <a:xfrm>
            <a:off x="4921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ihandform 43"/>
          <p:cNvSpPr/>
          <p:nvPr/>
        </p:nvSpPr>
        <p:spPr>
          <a:xfrm>
            <a:off x="18129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ihandform 44"/>
          <p:cNvSpPr/>
          <p:nvPr/>
        </p:nvSpPr>
        <p:spPr>
          <a:xfrm>
            <a:off x="31845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ihandform 45"/>
          <p:cNvSpPr/>
          <p:nvPr/>
        </p:nvSpPr>
        <p:spPr>
          <a:xfrm>
            <a:off x="510552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ihandform 46"/>
          <p:cNvSpPr/>
          <p:nvPr/>
        </p:nvSpPr>
        <p:spPr>
          <a:xfrm>
            <a:off x="349200" y="4754520"/>
            <a:ext cx="1494000" cy="1825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ihandform 47"/>
          <p:cNvSpPr/>
          <p:nvPr/>
        </p:nvSpPr>
        <p:spPr>
          <a:xfrm>
            <a:off x="3641760" y="47545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ihandform 48"/>
          <p:cNvSpPr/>
          <p:nvPr/>
        </p:nvSpPr>
        <p:spPr>
          <a:xfrm>
            <a:off x="34920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ihandform 49"/>
          <p:cNvSpPr/>
          <p:nvPr/>
        </p:nvSpPr>
        <p:spPr>
          <a:xfrm>
            <a:off x="16668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ihandform 50"/>
          <p:cNvSpPr/>
          <p:nvPr/>
        </p:nvSpPr>
        <p:spPr>
          <a:xfrm>
            <a:off x="181296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ihandform 51"/>
          <p:cNvSpPr/>
          <p:nvPr/>
        </p:nvSpPr>
        <p:spPr>
          <a:xfrm>
            <a:off x="16668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ihandform 52"/>
          <p:cNvSpPr/>
          <p:nvPr/>
        </p:nvSpPr>
        <p:spPr>
          <a:xfrm>
            <a:off x="1843200" y="4754520"/>
            <a:ext cx="1341360" cy="1825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ihandform 53"/>
          <p:cNvSpPr/>
          <p:nvPr/>
        </p:nvSpPr>
        <p:spPr>
          <a:xfrm>
            <a:off x="318456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ihandform 54"/>
          <p:cNvSpPr/>
          <p:nvPr/>
        </p:nvSpPr>
        <p:spPr>
          <a:xfrm>
            <a:off x="345924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ihandform 55"/>
          <p:cNvSpPr/>
          <p:nvPr/>
        </p:nvSpPr>
        <p:spPr>
          <a:xfrm>
            <a:off x="510552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ihandform 56"/>
          <p:cNvSpPr/>
          <p:nvPr/>
        </p:nvSpPr>
        <p:spPr>
          <a:xfrm>
            <a:off x="2270160" y="4479840"/>
            <a:ext cx="1371600" cy="1843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ihandform 57"/>
          <p:cNvSpPr/>
          <p:nvPr/>
        </p:nvSpPr>
        <p:spPr>
          <a:xfrm>
            <a:off x="208764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ihandform 58"/>
          <p:cNvSpPr/>
          <p:nvPr/>
        </p:nvSpPr>
        <p:spPr>
          <a:xfrm>
            <a:off x="20876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ihandform 59"/>
          <p:cNvSpPr/>
          <p:nvPr/>
        </p:nvSpPr>
        <p:spPr>
          <a:xfrm>
            <a:off x="510552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ihandform 60"/>
          <p:cNvSpPr/>
          <p:nvPr/>
        </p:nvSpPr>
        <p:spPr>
          <a:xfrm>
            <a:off x="510552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ihandform 61"/>
          <p:cNvSpPr/>
          <p:nvPr/>
        </p:nvSpPr>
        <p:spPr>
          <a:xfrm>
            <a:off x="1843200" y="4937040"/>
            <a:ext cx="1341360" cy="1843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ihandform 62"/>
          <p:cNvSpPr/>
          <p:nvPr/>
        </p:nvSpPr>
        <p:spPr>
          <a:xfrm>
            <a:off x="2270160" y="4297320"/>
            <a:ext cx="1371600" cy="18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63"/>
          <p:cNvSpPr/>
          <p:nvPr/>
        </p:nvSpPr>
        <p:spPr>
          <a:xfrm>
            <a:off x="5472000" y="12733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lobal 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 described by mod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4"/>
          <p:cNvSpPr/>
          <p:nvPr/>
        </p:nvSpPr>
        <p:spPr>
          <a:xfrm>
            <a:off x="5472000" y="367020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sub-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end on stencil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border definition done by user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65"/>
          <p:cNvSpPr/>
          <p:nvPr/>
        </p:nvSpPr>
        <p:spPr>
          <a:xfrm>
            <a:off x="214200" y="2995560"/>
            <a:ext cx="4372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  <a:ea typeface="Tahoma"/>
              </a:rPr>
              <a:t>Source</a:t>
            </a:r>
            <a:r>
              <a:rPr b="0" lang="de-DE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i       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   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         Target</a:t>
            </a:r>
            <a:r>
              <a:rPr b="0" lang="de-DE" sz="1800" spc="-1" strike="noStrike" baseline="-25000">
                <a:solidFill>
                  <a:srgbClr val="c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Nach unten gekrümmter Pfeil 66"/>
          <p:cNvSpPr/>
          <p:nvPr/>
        </p:nvSpPr>
        <p:spPr>
          <a:xfrm>
            <a:off x="441360" y="1449360"/>
            <a:ext cx="4572000" cy="63828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320 h 638280"/>
              <a:gd name="textAreaBottom" fmla="*/ 552960 h 6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5" hR="21600" stAng="10800000" swAng="5400000"/>
                <a:lnTo>
                  <a:pt x="10989" y="0"/>
                </a:lnTo>
                <a:arcTo wR="10235" hR="21600" stAng="-5400000" swAng="3684760"/>
                <a:lnTo>
                  <a:pt x="21275" y="16200"/>
                </a:lnTo>
                <a:lnTo>
                  <a:pt x="20846" y="21600"/>
                </a:lnTo>
                <a:lnTo>
                  <a:pt x="19767" y="16200"/>
                </a:lnTo>
                <a:lnTo>
                  <a:pt x="20144" y="16200"/>
                </a:lnTo>
                <a:arcTo wR="10235" hR="21600" stAng="-1715240" swAng="-3624724"/>
                <a:lnTo>
                  <a:pt x="10612" y="15"/>
                </a:lnTo>
                <a:arcTo wR="10235" hR="21600" stAng="-5460036" swAng="-5339964"/>
                <a:close/>
              </a:path>
              <a:path fill="darkenLess" w="21600" h="21600">
                <a:moveTo>
                  <a:pt x="0" y="21600"/>
                </a:moveTo>
                <a:arcTo wR="10235" hR="21600" stAng="10800000" swAng="5400000"/>
                <a:lnTo>
                  <a:pt x="10235" y="0"/>
                </a:lnTo>
                <a:arcTo wR="10235" hR="21600" stAng="-5400000" swAng="60036"/>
                <a:lnTo>
                  <a:pt x="10612" y="15"/>
                </a:lnTo>
                <a:arcTo wR="10235" hR="21600" stAng="-5460036" swAng="-533996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ch unten gekrümmter Pfeil 67"/>
          <p:cNvSpPr/>
          <p:nvPr/>
        </p:nvSpPr>
        <p:spPr>
          <a:xfrm rot="10800000">
            <a:off x="136440" y="2374200"/>
            <a:ext cx="4572000" cy="63972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4" hR="21600" stAng="10800000" swAng="5400000"/>
                <a:lnTo>
                  <a:pt x="10989" y="0"/>
                </a:lnTo>
                <a:arcTo wR="10234" hR="21600" stAng="-5400000" swAng="3684619"/>
                <a:lnTo>
                  <a:pt x="21275" y="16200"/>
                </a:lnTo>
                <a:lnTo>
                  <a:pt x="20845" y="21600"/>
                </a:lnTo>
                <a:lnTo>
                  <a:pt x="19764" y="16200"/>
                </a:lnTo>
                <a:lnTo>
                  <a:pt x="20142" y="16200"/>
                </a:lnTo>
                <a:arcTo wR="10234" hR="21600" stAng="-1715381" swAng="-3624503"/>
                <a:lnTo>
                  <a:pt x="10611" y="15"/>
                </a:lnTo>
                <a:arcTo wR="10234" hR="21600" stAng="-5460116" swAng="-5339884"/>
                <a:close/>
              </a:path>
              <a:path fill="darkenLess" w="21600" h="21600">
                <a:moveTo>
                  <a:pt x="0" y="21600"/>
                </a:moveTo>
                <a:arcTo wR="10234" hR="21600" stAng="10800000" swAng="5400000"/>
                <a:lnTo>
                  <a:pt x="10234" y="0"/>
                </a:lnTo>
                <a:arcTo wR="10234" hR="21600" stAng="-5400000" swAng="60116"/>
                <a:lnTo>
                  <a:pt x="10611" y="15"/>
                </a:lnTo>
                <a:arcTo wR="10234" hR="21600" stAng="-5460116" swAng="-533988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feil nach rechts 68"/>
          <p:cNvSpPr/>
          <p:nvPr/>
        </p:nvSpPr>
        <p:spPr>
          <a:xfrm>
            <a:off x="1874880" y="3166920"/>
            <a:ext cx="547560" cy="179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nhaltsplatzhalter 6" descr=""/>
          <p:cNvPicPr/>
          <p:nvPr/>
        </p:nvPicPr>
        <p:blipFill>
          <a:blip r:embed="rId1"/>
          <a:srcRect l="0" t="0" r="0" b="27138"/>
          <a:stretch/>
        </p:blipFill>
        <p:spPr>
          <a:xfrm>
            <a:off x="654120" y="2009880"/>
            <a:ext cx="7835760" cy="3435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3d-bounds-exchange 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E6F3-BF4E-44BB-B0A4-3CF9EDC5190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2405-C563-40C1-A9ED-DAA0B15BC6E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8"/>
          <p:cNvSpPr/>
          <p:nvPr/>
        </p:nvSpPr>
        <p:spPr>
          <a:xfrm>
            <a:off x="1403280" y="14144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ritten – requires symmetric regular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9"/>
          <p:cNvSpPr/>
          <p:nvPr/>
        </p:nvSpPr>
        <p:spPr>
          <a:xfrm>
            <a:off x="5508720" y="1414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rans/YAXT gene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9C1C-933E-4C29-8A85-38E4BE9D2B4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7818-2AA6-4787-BCE3-8435D48C9A3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2040" y="34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[TP04L40: 8x4] Loa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afik 17" descr=""/>
          <p:cNvPicPr/>
          <p:nvPr/>
        </p:nvPicPr>
        <p:blipFill>
          <a:blip r:embed="rId1"/>
          <a:stretch/>
        </p:blipFill>
        <p:spPr>
          <a:xfrm>
            <a:off x="63360" y="1089000"/>
            <a:ext cx="5029200" cy="2532240"/>
          </a:xfrm>
          <a:prstGeom prst="rect">
            <a:avLst/>
          </a:prstGeom>
          <a:ln w="0">
            <a:noFill/>
          </a:ln>
        </p:spPr>
      </p:pic>
      <p:pic>
        <p:nvPicPr>
          <p:cNvPr id="444" name="Grafik 18" descr=""/>
          <p:cNvPicPr/>
          <p:nvPr/>
        </p:nvPicPr>
        <p:blipFill>
          <a:blip r:embed="rId2"/>
          <a:stretch/>
        </p:blipFill>
        <p:spPr>
          <a:xfrm>
            <a:off x="55440" y="3875040"/>
            <a:ext cx="5029200" cy="2532240"/>
          </a:xfrm>
          <a:prstGeom prst="rect">
            <a:avLst/>
          </a:prstGeom>
          <a:ln w="0">
            <a:noFill/>
          </a:ln>
        </p:spPr>
      </p:pic>
      <p:sp>
        <p:nvSpPr>
          <p:cNvPr id="445" name="Textfeld 19"/>
          <p:cNvSpPr/>
          <p:nvPr/>
        </p:nvSpPr>
        <p:spPr>
          <a:xfrm>
            <a:off x="5472000" y="1268280"/>
            <a:ext cx="3421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t-point-only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load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fit legacy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hing g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feld 20"/>
          <p:cNvSpPr/>
          <p:nvPr/>
        </p:nvSpPr>
        <p:spPr>
          <a:xfrm>
            <a:off x="5472000" y="387504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dapted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ld boundary exchang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programming ex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AXT-for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s for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 asynchronous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-Place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Multi-Phase ex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Use YAXT in MPIOM, ECHAM, ICON and CDI-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BB53-FEF7-4AC7-A40C-2822E7188B5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15BE-64C9-4418-BED9-38BD9644E04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262626"/>
                </a:solidFill>
                <a:latin typeface="Tahoma"/>
                <a:ea typeface="Tahoma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cumentation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https://redmine.dkrz.de/doc/yaxt/html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https://www.dkrz.de/redmine/projects/ya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s://www.dkrz.de/redmine/projects/yaxt/wiki/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28600" y="423360"/>
            <a:ext cx="542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Tahoma"/>
              <a:ea typeface="Tahoma"/>
            </a:endParaRPr>
          </a:p>
        </p:txBody>
      </p:sp>
      <p:sp>
        <p:nvSpPr>
          <p:cNvPr id="4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4DC8-9B41-4C5A-BEDA-F09E9B6A3A2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43F8-9235-4A3B-BF95-CDF04F2020F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process defines what data it has and what it wants (source and target decomposi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a mapping between source and target decom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data type specific redistribution object for a given mapp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ime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Do th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in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Clean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E088-FFC6-4210-AC12-03ECF70D0FA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7609-5928-4C30-93E9-132CB5F65E7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ll data elements have the same memory layout and are stored in an array (C makes no difference between 1D and nD-arr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data object has a unique global id (integ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 decomposition is a list of global data element 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positions of the global ids within the set correspond to the positions of the respective data elements within the data array (if nothing else is sai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CB70-7694-40A7-AD7B-EA6634CDF4D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3296-2211-4AFD-AEC0-8FCA1F4D621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mapping you need to provide the two decompositions and a MPI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operation is collective for all processes within the given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483E-2C2A-4ADB-A006-7F5922CDF89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88B6-FD17-45B6-8808-067C386C4AF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data specific redistribution object the user needs to provide a mapping object and the MPI data type for the data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t is possible to combine multiple existing redistribution objects (useful for aggregation of data exchang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F927-2A80-498F-A418-3DF29D1C8F6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3E70-2C61-4D34-B475-85FBB5089E8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do the exchange the user needs to call the exchange routine and provide a redistribution object and the source and target array(s) (passed via C_LOC from Fortra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l objects generated by YAXT can be destroyed by calling the respective de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F4A9-BCA0-459F-A9EF-280AE741402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6BBC-FD45-41B8-8289-B30B1E3AED8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26"/>
                </a:solidFill>
                <a:latin typeface="Tahoma"/>
                <a:ea typeface="Tahoma"/>
              </a:rPr>
              <a:t>Gather on rank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610240" cy="1457280"/>
          </a:xfrm>
          <a:prstGeom prst="rect">
            <a:avLst/>
          </a:prstGeom>
          <a:ln w="0">
            <a:noFill/>
          </a:ln>
        </p:spPr>
      </p:pic>
      <p:sp>
        <p:nvSpPr>
          <p:cNvPr id="17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1DA0-F577-4978-A542-5DE1952A7C8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5419-4588-4799-8E93-BA04BF83FC5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7:51:59Z</dcterms:created>
  <dc:creator/>
  <dc:description/>
  <dc:language>en-US</dc:language>
  <cp:lastModifiedBy/>
  <dcterms:modified xsi:type="dcterms:W3CDTF">2013-06-07T09:37:03Z</dcterms:modified>
  <cp:revision>50</cp:revision>
  <dc:subject/>
  <dc:title>Introduction to YAXT</dc:title>
</cp:coreProperties>
</file>